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714533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1460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226880" y="703440"/>
            <a:ext cx="4692600" cy="35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52200" y="4459320"/>
            <a:ext cx="5241960" cy="4222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C1DCEDC-8742-4439-B84C-4877A1970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E556843-7199-453D-88CB-E51F56CEC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BF30F88-6D4F-4EA4-96C0-D0D5CB91E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0C0A160-DF40-4045-844A-88A6CB3A8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98759AA-5A85-4EE7-BACD-86374F47D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116C358-DE77-4454-A1D0-27CE2ED06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D9B78E5-CC7A-4A43-84EA-B5E5DB717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B176209-1EDD-445B-9F5A-332A4FE4E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0EFA75B-4568-4F73-BF89-D459465F1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93B4B6B-3BA0-43E0-9D7D-ECE929922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79391F6-6DD4-426B-9149-C273B3E51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06AEE0A-3B0C-437B-9A20-6E7B17A9C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85F955C-7083-45A3-B28C-06653D41E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34322AB-665F-473B-A54B-D04E3FB8A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DB9D5DB-063B-4945-8931-BC4601159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59221F9-4886-4558-9F83-E3E323D4D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696600"/>
            <a:ext cx="8001000" cy="24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d8000a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629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UGSol_Sig_stack_white_ppt" descr=""/>
          <p:cNvPicPr/>
          <p:nvPr/>
        </p:nvPicPr>
        <p:blipFill>
          <a:blip r:embed="rId2"/>
          <a:stretch/>
        </p:blipFill>
        <p:spPr>
          <a:xfrm>
            <a:off x="7620120" y="6019920"/>
            <a:ext cx="1371600" cy="68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d04"/>
                </a:solidFill>
                <a:latin typeface="Arial"/>
              </a:rPr>
              <a:t>Tcl для UG POST</a:t>
            </a:r>
            <a:endParaRPr b="1" lang="en-US" sz="48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Чиж Олег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одстановка переменных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715160" cy="9237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arnam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берется значение переменной с именем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arnam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2895480"/>
            <a:ext cx="320040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мер коман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t a sau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t b kra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t c $a$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81480" y="2895480"/>
            <a:ext cx="320040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езульта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=sau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=kra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=$a$b=sauerkra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одстановка переменных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8001000" cy="9237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интаксис:  [script]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сполнение скрипта, результат подстановк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2651040"/>
            <a:ext cx="327672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мер коман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t b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t a [expr $b+2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t a “b-3 is [expr $b-3]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2666880"/>
            <a:ext cx="4038480" cy="27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езульта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=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=$b+2=8+2=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=b-3 is [$b-3]= b-3 is [8-3]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-3 is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ростой вывод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ts stdout “hello world“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эта команда выводит строку в текущее окно Tc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ля вывода переменных перед именем переменной используется префикс $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ts stdout $nam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ростой вывод и специальные символы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ывод специальных символов \, $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\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ts stdout “\\”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ts stdout “\$”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ab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ts stdout “\t”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F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ts stdout “\013”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F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ts stdout “\n”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ростой ввод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ets stdin va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эта команда читает значение строки из текущего окна и назначает соответствующую переменную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Слова управляющие структорой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1552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d0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азделители слов это пробел и точка с запятой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d8000a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войные кавычки предупреждают разрывы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t a “Funny word; has spaces”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d8000a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Фигурные скобки предупреждают разрывы и замены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t a {nested {} braces}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d8000a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Обратная черта для маскировки специальных символов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t a word\ with\ \$\ and\ spac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cd0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дстановка не изменяет структуру слов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d8000a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t a “two words”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d8000a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t b $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Выражения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7715160" cy="1828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тиль языка C (целые и вещественные), дополнительная поддержка обработки строк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нутри выражений допустимо ввод команд и подстановка переменных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Используется expr, и другие команды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2743200"/>
            <a:ext cx="3200400" cy="33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мер коман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t b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pr ($b*4)-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pr {$b*[fac 4]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t a Bi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pr {$a &lt; “Anne”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2743200"/>
            <a:ext cx="3200400" cy="33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sul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i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Управляющие структуры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715160" cy="43434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тиль языка C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Эти команды используются в Tcl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крипте как аргументы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мер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f {$x &lt; 3} {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ts stdout “x is too small!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t x 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Управляющие структуры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715160" cy="33624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имер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witch $x  {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inear { puts stdout “linear” }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ircle {puts stdout “circle” }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4114800"/>
            <a:ext cx="739152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f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orea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hile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771552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c command defines procedure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d8000a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c sub1 x {expr $-1}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цедуры ведут себя точно так же как встроенные команды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d8000a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b1 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озвращает: 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Аргументы могут принимать значения по умолчанию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d8000a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c decr {x {y 1}} {expr $x-$y}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озможно переменное кол-во аргументов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d8000a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c foo {a b args} {...}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брасть действия: локальные и глобальные переменны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304560" y="45684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роцедуры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2438280"/>
            <a:ext cx="3276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Список имен аргумет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05740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им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33920" y="205740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тел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1982880"/>
            <a:ext cx="0" cy="3031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3040" y="2286000"/>
            <a:ext cx="684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1982880"/>
            <a:ext cx="0" cy="5317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1982880"/>
            <a:ext cx="0" cy="3031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01840" y="2286000"/>
            <a:ext cx="684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Введение в Tcl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cl коды содержатся в Tcl скрипте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крипт может содержать коды как внутри оператора “procs” так и вне этого оператора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Коды снаружы оператора “proc” выполняются при чтении интерпритатором скрипта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Коды внутри опретора “proc” выполняются только при вызове процедуры “proc”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Доступны локальные и глобальные переменные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Допустимы операции с числами, строками, логические операции и операции отношения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чень мощная обработка строк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меет управляющие структуры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f, while, for, foreach, break, continue, switch, eval, expr, source.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егко расширяемый, то есть, можно очень легко прибавлять новые команды к интерпретатору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меет средства для обработки ошибок, ввода - вывода в файл, порождение процесса и ограниченную отладку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роцедуры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30080" y="1522440"/>
            <a:ext cx="7767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еременные в процедур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аждая процедура имеет свою собственную таблицу переменны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Ошибки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шибки обычно прерывают выполнение команды, и выводят сообщение на экран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2819520"/>
            <a:ext cx="4191120" cy="17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et n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oreach i {1 2 3 4 5}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et n [expr {$n + i*i}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4800600"/>
            <a:ext cx="771516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noAutofit/>
          </a:bodyPr>
          <a:p>
            <a:pPr marL="387360" indent="-387360">
              <a:spcBef>
                <a:spcPts val="601"/>
              </a:spcBef>
              <a:buClr>
                <a:srgbClr val="00ffee"/>
              </a:buClr>
              <a:buSzPct val="79000"/>
              <a:buFont typeface="EDSlogo"/>
              <a:buChar char="•"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озвращает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6920" indent="-325440">
              <a:lnSpc>
                <a:spcPct val="100000"/>
              </a:lnSpc>
              <a:spcBef>
                <a:spcPts val="601"/>
              </a:spcBef>
              <a:buClr>
                <a:srgbClr val="00ffee"/>
              </a:buClr>
              <a:buSzPct val="119000"/>
              <a:buFont typeface="Arial"/>
              <a:buChar char="•"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интаксическая ошибка в выражении “$n + i*i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Дополнительные элементы Tcl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оманды манипуляции со строками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оманды ввода/вывода в файлы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оцессы с командой exec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2209680"/>
            <a:ext cx="7391160" cy="8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tring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ormat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plit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egex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can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jo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3733920"/>
            <a:ext cx="7391160" cy="13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n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eek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ile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lo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ell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glob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gets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lus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d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ead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of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w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5715000"/>
            <a:ext cx="7391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xec grep foo &lt;&lt; $input | w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Массивы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Массивы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вязанные массивы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71600" y="4114800"/>
            <a:ext cx="7391520" cy="13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et capital(USA)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“Washington D.C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et capital(GERMANY) “Berlin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rray names capital               -&gt;      USA, GERMAN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03280" y="1947960"/>
            <a:ext cx="7391520" cy="13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et tool_axis(0) 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et tool_axis(1)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et tool_axis(2) 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001000" cy="5220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Специальные команды получения информации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715520" cy="8380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Доступ из Tc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2209680"/>
            <a:ext cx="8636040" cy="17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fo command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показать команды Tc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fo commands {a*}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показать команды Tcl с a*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fo tclversion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Tcl версия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fo exists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varname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проверка существующей переменной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Tcl синтаксис - обзор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5943600" cy="49528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крипт = список команд разделенных новой строкой или точкой с запятой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оманда = слова резделенные пробелом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 указывает на подстановку переменной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[] указывает на подстановку команды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Tcl синтаксис - обзор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5867640" cy="47246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”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авычки при наличии пробелов или точки с запятой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{} кавычки для всех специальных символов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\ маскирование следующего символа, как в языке С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# для коментариев (должен располагатся в начале команды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ример программы на Tcl: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1/2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7848360" cy="51818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c fact x {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f { $x &lt;= 1 } { return 1 }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pr $x * [fact [expr $x - 1]]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# Mai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f { $argc != 2 } {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ts "Usage: $argv0 &lt;input file&gt; &lt;output file&gt;"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it 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ример программы на Tcl :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2/2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6551640" cy="46483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t infile  [open [lindex argv 0] r]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t outfile [open [lindex argv 1] w]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ile { [gets $infile number] &gt;= 0 } {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t value [fact $number]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ts $outfile $valu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ose $infi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ose $outfi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# Now remove input fi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ec rm [lindex argv 1]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Файлы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1552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pen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filename access permiss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озвращает указатель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lename = путь и имя файла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ccess = r, r+, w, ..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rmiss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мер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t logfile [open /tmp/log.dat w]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Основы Tcl 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d0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cl скрип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d8000a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оследовательность команд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d8000a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оманды разделяются по новой строке, точка с запятой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cd0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cl команд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d8000a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дно или более слов разделенных пробелами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d8000a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рвое слово - это имя команды, остальные аргументы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cd0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оментари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d8000a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начинаются с #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Файлы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Чтение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ad filechannel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t name [read filechannel]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Запись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ts filechannel “name“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Запуск Tcl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IX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clsh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ndows 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ыберите Tcl как обычную программу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ример 1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09640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асчитайте следующие примеры на Tc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*5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*sin(3.14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-9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7*6)/5+5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/7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0/6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ример 2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66720" y="1600200"/>
            <a:ext cx="847728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пределите следующие переменные в Tc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=9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=6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асчитайте следующее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+b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*a+b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=a+b*4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=a*b/6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ример 3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2500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ыведите следующее в Tc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ll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llo worl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value of b is (here value of b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-b is (here value of a-b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\this is a comment\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$ 1 = DM 1,8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ример 4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Напишите Tcl скрипт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задайте две переменных a и b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асчитайте a+b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ыведите результа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ример 5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Измените Tcl скрип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добавьте команду ввода значений переменных a и b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асчитайте a+b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ыведите результа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ример 6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Измените Tcl скрип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если значение переменной a или b равно 0 выводите сообщение об этом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ример 7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Измените Tcl скрип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добавьте третью строку ввода, в которой пользователь может вводить тип вычисления (“+” = p, “-” = s, “*” = m, “/” = d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ример 8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15160" cy="49528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Напишите новый Tcl скрипт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Главная программа запрашивает пользователя, какую область вычислять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ямоугольник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кружность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-я подпрограма (прямоугольник)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запрашивает длинну и ширину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ычисляет площадь прямоугольника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-я подпрограма (окружность)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запрашивает радиус и значение pi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ычисляет площадь окружности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римеры: Скрипт, Коментарий, Команда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меры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cl Скрипт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1760" y="2666880"/>
            <a:ext cx="36399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это текст коментар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 A 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 B 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 C 3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776240" y="4191120"/>
            <a:ext cx="1197360" cy="1313280"/>
            <a:chOff x="1776240" y="4191120"/>
            <a:chExt cx="1197360" cy="1313280"/>
          </a:xfrm>
        </p:grpSpPr>
        <p:sp>
          <p:nvSpPr>
            <p:cNvPr id="57" name=""/>
            <p:cNvSpPr/>
            <p:nvPr/>
          </p:nvSpPr>
          <p:spPr>
            <a:xfrm>
              <a:off x="1776240" y="5105520"/>
              <a:ext cx="119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Команд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2438280" y="4191120"/>
              <a:ext cx="0" cy="838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497680" y="4191120"/>
            <a:ext cx="1506600" cy="779760"/>
            <a:chOff x="2497680" y="4191120"/>
            <a:chExt cx="1506600" cy="779760"/>
          </a:xfrm>
        </p:grpSpPr>
        <p:sp>
          <p:nvSpPr>
            <p:cNvPr id="60" name=""/>
            <p:cNvSpPr/>
            <p:nvPr/>
          </p:nvSpPr>
          <p:spPr>
            <a:xfrm>
              <a:off x="2497680" y="4572000"/>
              <a:ext cx="150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Аргумент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2819520" y="4191120"/>
              <a:ext cx="304560" cy="382320"/>
              <a:chOff x="2819520" y="4191120"/>
              <a:chExt cx="304560" cy="382320"/>
            </a:xfrm>
          </p:grpSpPr>
          <p:sp>
            <p:nvSpPr>
              <p:cNvPr id="62" name=""/>
              <p:cNvSpPr/>
              <p:nvPr/>
            </p:nvSpPr>
            <p:spPr>
              <a:xfrm flipV="1">
                <a:off x="2819520" y="4191120"/>
                <a:ext cx="0" cy="3823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3124080" y="4191120"/>
                <a:ext cx="0" cy="3823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819520" y="4572000"/>
                <a:ext cx="3045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" name=""/>
          <p:cNvGrpSpPr/>
          <p:nvPr/>
        </p:nvGrpSpPr>
        <p:grpSpPr>
          <a:xfrm>
            <a:off x="4952880" y="2666880"/>
            <a:ext cx="1387800" cy="1447920"/>
            <a:chOff x="4952880" y="2666880"/>
            <a:chExt cx="1387800" cy="1447920"/>
          </a:xfrm>
        </p:grpSpPr>
        <p:sp>
          <p:nvSpPr>
            <p:cNvPr id="66" name=""/>
            <p:cNvSpPr/>
            <p:nvPr/>
          </p:nvSpPr>
          <p:spPr>
            <a:xfrm>
              <a:off x="4952880" y="266688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57800" y="2666880"/>
              <a:ext cx="0" cy="144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952880" y="411480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70040" y="3124080"/>
              <a:ext cx="107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Скрипт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Решение 1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5640" y="175248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r 5*5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r 6*sin(3.14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r 5-9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r (7*6)/5+5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r 5/6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r 5.0/6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Решение 2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90560" y="16765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t a 9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t b 6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r $a+$b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r $a*$a+$b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t c [expr $a+$b*4]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t d [expr $a*$b/6]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Решение 3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28480" y="160020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uts stdout Hello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uts stdout “Hello world”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uts stdout Hello\ worl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uts stdout “the value of b is $b”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uts stdout “a-b is [expr $a-$b]”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uts stdout “\\this is a comment\\”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uts stdout “US\$ 1 = DM 1,80”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Решение 4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905120" y="1676520"/>
            <a:ext cx="8020080" cy="45720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cript1.tc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t a 10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t b 1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t c [expr $a+$b]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uts stdout “result is $c”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clsh script1.tc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Решение 5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28480" y="1523880"/>
            <a:ext cx="7715160" cy="45720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t a 0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t b 0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uts stdout “Please input a”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ets stdin a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uts stdout “Please input b”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ets stdin b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t c [expr $a+$b]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uts stdout “result is $c”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Решение 6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95280" y="1295280"/>
            <a:ext cx="7715520" cy="50292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t a 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t b 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ts stdout “Please input a”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ets stdin 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ts stdout “Please input b”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ets stdin b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f { $a==0} {puts stdout “a is 0” }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f { $b==0} {puts stdout “b is 0” }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ts stdout “result is [expr $a+$b]”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Решение 7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1/2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9680" y="1447920"/>
            <a:ext cx="5943600" cy="50292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t a 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t b 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t c “”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ts stdout “Please input a”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ets stdin 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ts stdout “Please input b”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ets stdin b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ts stdout “Please input c”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ets stdin c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Решение 7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2/2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71600" y="838080"/>
            <a:ext cx="7315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f { $a==0} {puts stdout “a is 0” 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f { $b==0} {puts stdout “b is 0” 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witch $c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  { set c  [expr $a+$b] 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   { set c  [expr $a-$b] 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 { set c  [expr $a*$b] 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  { set c  [expr $a/$b] 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fault {puts stdout “no calculation”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ts stdout “result is $c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001000" cy="5220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Решение 8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1/2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264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t a “”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uts stdout “c = circle”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uts stdout “r = rectangle”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ets stdin a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witch $a {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 { rectangle }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 { circle }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fault {puts stdout “ no selection”}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1752480"/>
            <a:ext cx="449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01000" cy="5220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Решение 8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2/2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1752480"/>
            <a:ext cx="449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28800" y="838080"/>
            <a:ext cx="678168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c  rectangle {}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t length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t width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ts stdout “length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ets stdin leng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ts stdout “width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ets stdin wid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t area [expr $length*$width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ts stdout “area=$area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Интерпритация Tcl команд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838080" y="1600200"/>
            <a:ext cx="4191120" cy="411840"/>
            <a:chOff x="838080" y="1600200"/>
            <a:chExt cx="4191120" cy="411840"/>
          </a:xfrm>
        </p:grpSpPr>
        <p:sp>
          <p:nvSpPr>
            <p:cNvPr id="72" name=""/>
            <p:cNvSpPr/>
            <p:nvPr/>
          </p:nvSpPr>
          <p:spPr>
            <a:xfrm>
              <a:off x="838080" y="1600200"/>
              <a:ext cx="4191120" cy="380880"/>
            </a:xfrm>
            <a:prstGeom prst="rect">
              <a:avLst/>
            </a:prstGeom>
            <a:solidFill>
              <a:srgbClr val="d8000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50320" y="1614600"/>
              <a:ext cx="1201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Команд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1447920" y="1905120"/>
            <a:ext cx="0" cy="303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2209680"/>
            <a:ext cx="1295640" cy="685800"/>
          </a:xfrm>
          <a:prstGeom prst="rect">
            <a:avLst/>
          </a:prstGeom>
          <a:solidFill>
            <a:srgbClr val="d8000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9040" y="2286000"/>
            <a:ext cx="15872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интаксический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анализатор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95960" y="2133720"/>
            <a:ext cx="5308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Разбивает команду на слова, делает замен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Не интерпретирует значения сл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38080" y="2820960"/>
            <a:ext cx="3675600" cy="988920"/>
            <a:chOff x="838080" y="2820960"/>
            <a:chExt cx="3675600" cy="988920"/>
          </a:xfrm>
        </p:grpSpPr>
        <p:sp>
          <p:nvSpPr>
            <p:cNvPr id="79" name=""/>
            <p:cNvSpPr/>
            <p:nvPr/>
          </p:nvSpPr>
          <p:spPr>
            <a:xfrm>
              <a:off x="1447920" y="2820960"/>
              <a:ext cx="0" cy="3031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38080" y="3200400"/>
              <a:ext cx="990720" cy="152280"/>
            </a:xfrm>
            <a:prstGeom prst="rect">
              <a:avLst/>
            </a:prstGeom>
            <a:solidFill>
              <a:srgbClr val="d8000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38080" y="3429000"/>
              <a:ext cx="1828800" cy="152280"/>
            </a:xfrm>
            <a:prstGeom prst="rect">
              <a:avLst/>
            </a:prstGeom>
            <a:solidFill>
              <a:srgbClr val="d8000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38080" y="3657600"/>
              <a:ext cx="990720" cy="152280"/>
            </a:xfrm>
            <a:prstGeom prst="rect">
              <a:avLst/>
            </a:prstGeom>
            <a:solidFill>
              <a:srgbClr val="d8000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07920" y="3367080"/>
              <a:ext cx="905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Слов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838080" y="3886200"/>
            <a:ext cx="6962400" cy="1158120"/>
            <a:chOff x="838080" y="3886200"/>
            <a:chExt cx="6962400" cy="1158120"/>
          </a:xfrm>
        </p:grpSpPr>
        <p:sp>
          <p:nvSpPr>
            <p:cNvPr id="85" name=""/>
            <p:cNvSpPr/>
            <p:nvPr/>
          </p:nvSpPr>
          <p:spPr>
            <a:xfrm>
              <a:off x="3590640" y="4341960"/>
              <a:ext cx="42098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Times New Roman"/>
                </a:rPr>
                <a:t>Интерпретирует слова,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Times New Roman"/>
                </a:rPr>
                <a:t>производит строковые результат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461960" y="3886200"/>
              <a:ext cx="0" cy="303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8080" y="4249800"/>
              <a:ext cx="1295280" cy="685800"/>
            </a:xfrm>
            <a:prstGeom prst="rect">
              <a:avLst/>
            </a:prstGeom>
            <a:solidFill>
              <a:srgbClr val="d8000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54640" y="4249800"/>
              <a:ext cx="123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</a:rPr>
                <a:t>Процедура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</a:rPr>
                <a:t>Команды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838080" y="5030640"/>
            <a:ext cx="4157280" cy="548280"/>
            <a:chOff x="838080" y="5030640"/>
            <a:chExt cx="4157280" cy="548280"/>
          </a:xfrm>
        </p:grpSpPr>
        <p:sp>
          <p:nvSpPr>
            <p:cNvPr id="90" name=""/>
            <p:cNvSpPr/>
            <p:nvPr/>
          </p:nvSpPr>
          <p:spPr>
            <a:xfrm>
              <a:off x="838080" y="5410080"/>
              <a:ext cx="990720" cy="152640"/>
            </a:xfrm>
            <a:prstGeom prst="rect">
              <a:avLst/>
            </a:prstGeom>
            <a:solidFill>
              <a:srgbClr val="d8000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33520" y="5030640"/>
              <a:ext cx="0" cy="303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56520" y="5181480"/>
              <a:ext cx="1338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Результат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d04"/>
                </a:solidFill>
                <a:latin typeface="Arial"/>
              </a:rPr>
              <a:t>Переменные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1552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мена переменных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лфавитно-цифровые символы, должны начаться с символа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 имени пробелы не допустимы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чувствительность к регистру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cl это язык свободного типа переменных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Значения переменных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се значения записываются как строки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Расчеты выполняются с помощью специальных функций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римеры переменных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мена переменных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ustomernam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_drill_tool_nam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_DRILL_TOOL_NAM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Инициализация переменных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X=4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X=5*9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c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t X 4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t X [ expr 5*9 ]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Инициализация переменных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715160" cy="9237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1523880"/>
            <a:ext cx="3505320" cy="38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мер коман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t b 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t a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t a $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t a $b+$b+$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t a $b.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t a $b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1523880"/>
            <a:ext cx="3200400" cy="38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езульта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=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=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=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=$b+$b+$b=66+66+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=$b.3=66.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o such variable</a:t>
            </a:r>
            <a:r>
              <a:rPr b="0" lang="en-US" sz="2400" spc="-1" strike="noStrike">
                <a:solidFill>
                  <a:srgbClr val="ffba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26T22:37:00Z</dcterms:created>
  <dc:creator>Richard W. Schenk</dc:creator>
  <dc:description/>
  <dc:language>en-US</dc:language>
  <cp:lastModifiedBy>TSSDEMO</cp:lastModifiedBy>
  <cp:lastPrinted>1998-06-16T23:55:32Z</cp:lastPrinted>
  <dcterms:modified xsi:type="dcterms:W3CDTF">2000-06-17T21:46:47Z</dcterms:modified>
  <cp:revision>99</cp:revision>
  <dc:subject/>
  <dc:title>No Slide Title</dc:title>
</cp:coreProperties>
</file>