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7145338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520" y="696600"/>
            <a:ext cx="8001000" cy="24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d8000a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6629400"/>
            <a:ext cx="7162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" name="UGSol_Sig_stack_white_ppt" descr=""/>
          <p:cNvPicPr/>
          <p:nvPr/>
        </p:nvPicPr>
        <p:blipFill>
          <a:blip r:embed="rId2"/>
          <a:stretch/>
        </p:blipFill>
        <p:spPr>
          <a:xfrm>
            <a:off x="7620120" y="6019920"/>
            <a:ext cx="1371600" cy="687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d04"/>
                </a:solidFill>
                <a:latin typeface="Arial"/>
              </a:rPr>
              <a:t>UGPOST </a:t>
            </a:r>
            <a:br>
              <a:rPr sz="4800"/>
            </a:br>
            <a:r>
              <a:rPr b="1" lang="en-US" sz="4800" spc="-1" strike="noStrike">
                <a:solidFill>
                  <a:srgbClr val="ffcd04"/>
                </a:solidFill>
                <a:latin typeface="Arial"/>
              </a:rPr>
              <a:t>Кинематика 5-осевых станков</a:t>
            </a:r>
            <a:endParaRPr b="1" lang="en-US" sz="48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447920" y="41911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Чиж Олег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Этот параметр для каждой поворотной оси устанавливается переменными 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mom_kin_4th_axis_rotatio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и 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mom_kin_5th_axis_rotatio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Эти переменные могут принимать два значения: стандарт или реверс, как показано ниже: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set mom_kin_4th_axis_rotation  standard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set mom_kin_5th_axis_rotation  reverse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Каждая переменная кинематики может устанавливатся в стандарт или реверс в зависимости от требуемого значения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Например: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Для станка с двумя поворотными головками, как показанный на рисунке 1, возможна ориентация оси инструмента вдоль вектора (1,0,0) при вращении оси A на 90 градусов и затем вращением оси B на 90 градусов. Однако, если вращение оси А установить как реверс, положение оси А будет равно -90 градусов для той же ориентации оси инструмента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Оси вращения (Стандарт или реверс)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001000" cy="52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Рисунок 1, Две головки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pic>
        <p:nvPicPr>
          <p:cNvPr id="61" name="dualhead1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641376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001000" cy="52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Смещение нулевой позиции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огда обе,  оси вращения на станке установлены в нуль, инструмент, должен быть выровнен по оси Z СКС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Нулевая позиция поворотных осей на некоторых станках (обычно станка с двумя головками или двумя столами) уснанавливается в конечном угловом значении.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Эти значения задаются переменными кинематики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mom_kin_4th_axis_zero_positio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и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mom_kin_5th_axis_zero_positio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для 4-й и 5-й оси соответственно.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80880" y="121932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бращайтесь к рисунку 5, на котором показан 5-осевой станок с головкой и столом. Исходное положение на этом станке для головки должно быть -90 градусов. Когда головка - в положении 0 градусов, инструмент будет выровнен с осью Y СКС, по направлению к столу. Кинематические переменные могут быть установлены в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cl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файле как показано ниже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set    mom_kin_4th_axis_zero_position    -90.0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set    mom_kin_5th_axis_zero_postion     0.0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ледовательно для вектора оси инструмента (0,0,1) необходимо развернуть головку в значение 90.0 градусов, так как исходное положение -90 градусов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380520" y="304920"/>
            <a:ext cx="8001000" cy="52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Смещение нулевой позиции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Рисунок 5, Головка Стол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pic>
        <p:nvPicPr>
          <p:cNvPr id="67" name="headtable1" descr=""/>
          <p:cNvPicPr/>
          <p:nvPr/>
        </p:nvPicPr>
        <p:blipFill>
          <a:blip r:embed="rId1"/>
          <a:srcRect l="0" t="0" r="0" b="2545"/>
          <a:stretch/>
        </p:blipFill>
        <p:spPr>
          <a:xfrm>
            <a:off x="685800" y="990720"/>
            <a:ext cx="64134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Точка поворота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609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Точка поворота определяет точку, относительно которой вращается головка станка. Для станков с двумя поворотными головками это точка определяется для головки 4-й оси и для головки 5-й оси. Во многих случаях точки обеих головок совпадают.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Для стандартного 5-осевого станкас головкой и столом или двумя головками эта точка задается переменной кинематики :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mom_kin_pivot_gauge_offset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Это смещение задается от точки измерения шпинделя до точки вращения головки.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Для станка Deckel Maho показанного на рисунке 7, точка поворота задается масивом переменных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mom_kin_gauge_to_pivo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 Для этих станков точка поворота лежит на векторе вращения 4-й оси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Рисунок 7, Deckel Maho, DMC80U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pic>
        <p:nvPicPr>
          <p:cNvPr id="71" name="dm_U1" descr=""/>
          <p:cNvPicPr/>
          <p:nvPr/>
        </p:nvPicPr>
        <p:blipFill>
          <a:blip r:embed="rId1"/>
          <a:stretch/>
        </p:blipFill>
        <p:spPr>
          <a:xfrm>
            <a:off x="838080" y="1295280"/>
            <a:ext cx="62485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001000" cy="52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Рисунок 1, Две головки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pic>
        <p:nvPicPr>
          <p:cNvPr id="73" name="dualhead1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6413760" cy="523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001000" cy="52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Рисунок 2, Смещения при 2-х головках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pic>
        <p:nvPicPr>
          <p:cNvPr id="75" name="dual_head" descr=""/>
          <p:cNvPicPr/>
          <p:nvPr/>
        </p:nvPicPr>
        <p:blipFill>
          <a:blip r:embed="rId1"/>
          <a:srcRect l="7765" t="8146" r="5729" b="4952"/>
          <a:stretch/>
        </p:blipFill>
        <p:spPr>
          <a:xfrm>
            <a:off x="762120" y="1143000"/>
            <a:ext cx="6553080" cy="53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Кинем. схема с двумя головками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838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499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ледующие строки определяют станок показаный на рисунке 1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set    mom_kin_machine_type                        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5_axis_dual_head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set   mom_kin_4th_axis_plane                              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ZX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set   mom_kin_4th_axis_center_offset(0)        0.0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2000"/>
            </a:b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set   mom_kin_4th_axis_center_offset(1)        0.0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2000"/>
            </a:b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set   mom_kin_4th_axis_center_offset(2)        0.0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2000"/>
            </a:b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set   mom_kin_4th_axis_rotation                      standard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2000"/>
            </a:b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set   mom_kin_4th_axis_zero_position            0.0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set   mom_kin_pivot_gauge_offset                   100.00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set   mom_kin_5th_axis_plane                             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YZ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2000"/>
            </a:b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set   mom_kin_5th_axis_center_offset(0)        XX (5</a:t>
            </a:r>
            <a:r>
              <a:rPr b="1" i="1" lang="en-US" sz="2000" spc="-1" strike="noStrike" baseline="30000">
                <a:solidFill>
                  <a:srgbClr val="ffff00"/>
                </a:solidFill>
                <a:latin typeface="Times New Roman"/>
              </a:rPr>
              <a:t>th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 axis x-offset)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2000"/>
            </a:b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set   mom_kin_5th_axis_center_offset(1)        YY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(5</a:t>
            </a:r>
            <a:r>
              <a:rPr b="1" i="1" lang="en-US" sz="2000" spc="-1" strike="noStrike" baseline="30000">
                <a:solidFill>
                  <a:srgbClr val="ffff00"/>
                </a:solidFill>
                <a:latin typeface="Times New Roman"/>
              </a:rPr>
              <a:t>th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 axis y-offset)</a:t>
            </a:r>
            <a:br>
              <a:rPr sz="2000"/>
            </a:b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set   mom_kin_5th_axis_center_offset(2)        ZZ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(5</a:t>
            </a:r>
            <a:r>
              <a:rPr b="1" i="1" lang="en-US" sz="2000" spc="-1" strike="noStrike" baseline="30000">
                <a:solidFill>
                  <a:srgbClr val="ffff00"/>
                </a:solidFill>
                <a:latin typeface="Times New Roman"/>
              </a:rPr>
              <a:t>th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 axis z-offset)</a:t>
            </a:r>
            <a:br>
              <a:rPr sz="2000"/>
            </a:b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set   mom_kin_5th_axis_rotation                     standard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2000"/>
            </a:b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set   mom_kin_5th_axis_zero_position            0.0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499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Расстояние от Нуля Станка до центра 4-ой оси не необходимо в этом типе станков и должно быть установлено в нуль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5-осевые станки 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еременная кинематики </a:t>
            </a:r>
            <a:r>
              <a:rPr b="1" i="1" lang="en-US" sz="2900" spc="-1" strike="noStrike">
                <a:solidFill>
                  <a:srgbClr val="ffff00"/>
                </a:solidFill>
                <a:latin typeface="Times New Roman"/>
              </a:rPr>
              <a:t>mom_kin_machine_typ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определяет тип станка. Для 5-осевых станков, доступны следующие значения переменной, от которой зависит тип станка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900" spc="-1" strike="noStrike">
                <a:solidFill>
                  <a:srgbClr val="ffff00"/>
                </a:solidFill>
                <a:latin typeface="Times New Roman"/>
              </a:rPr>
              <a:t>5_axis_dual_table</a:t>
            </a:r>
            <a:endParaRPr b="1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9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900" spc="-1" strike="noStrike">
                <a:solidFill>
                  <a:srgbClr val="ffff00"/>
                </a:solidFill>
                <a:latin typeface="Times New Roman"/>
              </a:rPr>
              <a:t>5_axis_head_table</a:t>
            </a:r>
            <a:r>
              <a:rPr b="1" lang="en-US" sz="29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9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900" spc="-1" strike="noStrike">
                <a:solidFill>
                  <a:srgbClr val="ffff00"/>
                </a:solidFill>
                <a:latin typeface="Times New Roman"/>
              </a:rPr>
              <a:t>5_axis_dual_head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001000" cy="52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Кинематическая схема с двумя столами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На рисунке 3, стол B смонтирован на столе A. Поэтому СКС в UG должна быть установление в центр 5-й оси стола при создании операций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Если Нуль Станка не в центре этого стола (независимая или 5-ая ось), то расстояние от нуля станка до центра стола должно быть введено в переменную кинематики смещения 4-й оси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И расстояние от 4-й до 5-й оси должно быть введено как переменная смещения центра 5-й оси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Рисунок 3, Два стола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pic>
        <p:nvPicPr>
          <p:cNvPr id="81" name="dualtable1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6413400" cy="523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Рисунок 4, Смещение 2-х столов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pic>
        <p:nvPicPr>
          <p:cNvPr id="83" name="dual_table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6629400" cy="54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723924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Кинем. схема с двумя столами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ледующие строки определяют станок показаный на рисунке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set    mom_kin_machine_type                             5_axis_dual_table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set   mom_kin_4th_axis_plane                                        YZ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2000"/>
            </a:b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set   mom_kin_4th_axis_center_offset(0)                       0.0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2000"/>
            </a:b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set   mom_kin_4th_axis_center_offset(1)                       0.0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2000"/>
            </a:b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set   mom_kin_4th_axis_center_offset(2)                       0.0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2000"/>
            </a:b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set   mom_kin_4th_axis_rotation                               standard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2000"/>
            </a:b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set   mom_kin_4th_axis_zero_position                           0.0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set   mom_kin_5th_axis_plane                                        ZX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2000"/>
            </a:b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set   mom_kin_5th_axis_center_offset(0)                       XX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2000"/>
            </a:b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set   mom_kin_5th_axis_center_offset(1)                       YY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2000"/>
            </a:b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set   mom_kin_5th_axis_center_offset(2)                       ZZ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2000"/>
            </a:b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set   mom_kin_5th_axis_rotation                               standard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1800"/>
            </a:br>
            <a:r>
              <a:rPr b="1" i="1" lang="en-US" sz="1800" spc="-1" strike="noStrike">
                <a:solidFill>
                  <a:srgbClr val="ffff00"/>
                </a:solidFill>
                <a:latin typeface="Times New Roman"/>
              </a:rPr>
              <a:t>set   mom_kin_5th_axis_zero_position                                  0.0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Рисунок 5, Головка стол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pic>
        <p:nvPicPr>
          <p:cNvPr id="87" name="headtable1" descr=""/>
          <p:cNvPicPr/>
          <p:nvPr/>
        </p:nvPicPr>
        <p:blipFill>
          <a:blip r:embed="rId1"/>
          <a:srcRect l="0" t="0" r="0" b="2545"/>
          <a:stretch/>
        </p:blipFill>
        <p:spPr>
          <a:xfrm>
            <a:off x="685800" y="990720"/>
            <a:ext cx="6413400" cy="510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686800" cy="52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Рисунок 6, Смещения, головка стол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pic>
        <p:nvPicPr>
          <p:cNvPr id="89" name="head_table" descr=""/>
          <p:cNvPicPr/>
          <p:nvPr/>
        </p:nvPicPr>
        <p:blipFill>
          <a:blip r:embed="rId1"/>
          <a:srcRect l="2477" t="6201" r="2475" b="6363"/>
          <a:stretch/>
        </p:blipFill>
        <p:spPr>
          <a:xfrm>
            <a:off x="685800" y="990720"/>
            <a:ext cx="685800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Кинемат. схема головка стол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ледующие строки определяют станок показаный на рисунке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set   mom_kin_machine_type                                     5_axis_head_table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set   mom_kin_4th_axis_plane                                             YZ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set   mom_kin_4th_axis_center_offset(0)                              0.0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set   mom_kin_4th_axis_center_offset(1)                              0.0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set   mom_kin_4th_axis_center_offset(2)                              0.0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set   mom_kin_4th_axis_rotation                                     standard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set   mom_kin_4th_axis_zero_position                                 0.0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set   mom_kin_pivot_gauge_offset                                       100.0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set   mom_kin_5th_axis_plane                                             ZX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set   mom_kin_5th_axis_center_offset(0)                            XX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set   mom_kin_5th_axis_center_offset(1)                            YY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set   mom_kin_5th_axis_center_offset(2)                            ZZ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set   mom_kin_5th_axis_rotation                                    standard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set   mom_kin_5th_axis_zero_postion                                 0.0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001000" cy="52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Рисунок 1, Две головки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pic>
        <p:nvPicPr>
          <p:cNvPr id="93" name="dualhead1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641376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Рисунок 3, Два стола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pic>
        <p:nvPicPr>
          <p:cNvPr id="95" name="dualtable1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641340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Рисунок 5, Головка стол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pic>
        <p:nvPicPr>
          <p:cNvPr id="97" name="headtable1" descr=""/>
          <p:cNvPicPr/>
          <p:nvPr/>
        </p:nvPicPr>
        <p:blipFill>
          <a:blip r:embed="rId1"/>
          <a:srcRect l="0" t="0" r="0" b="2545"/>
          <a:stretch/>
        </p:blipFill>
        <p:spPr>
          <a:xfrm>
            <a:off x="685800" y="990720"/>
            <a:ext cx="64134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Система координат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pic>
        <p:nvPicPr>
          <p:cNvPr id="45" name="MCS" descr=""/>
          <p:cNvPicPr/>
          <p:nvPr/>
        </p:nvPicPr>
        <p:blipFill>
          <a:blip r:embed="rId1"/>
          <a:srcRect l="2437" t="8206" r="6097" b="11159"/>
          <a:stretch/>
        </p:blipFill>
        <p:spPr>
          <a:xfrm>
            <a:off x="838080" y="1066680"/>
            <a:ext cx="6477120" cy="50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Рисунок 7, Deckel Maho, DMC80U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pic>
        <p:nvPicPr>
          <p:cNvPr id="99" name="dm_U1" descr=""/>
          <p:cNvPicPr/>
          <p:nvPr/>
        </p:nvPicPr>
        <p:blipFill>
          <a:blip r:embed="rId1"/>
          <a:stretch/>
        </p:blipFill>
        <p:spPr>
          <a:xfrm>
            <a:off x="838080" y="1295280"/>
            <a:ext cx="62485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99172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d04"/>
                </a:solidFill>
                <a:latin typeface="Arial"/>
              </a:rPr>
              <a:t>Рисунок 8, Deckel Maho DMC80U Смещения</a:t>
            </a:r>
            <a:endParaRPr b="1" lang="en-US" sz="3200" spc="-1" strike="noStrike">
              <a:solidFill>
                <a:srgbClr val="ffcd04"/>
              </a:solidFill>
              <a:latin typeface="Arial"/>
            </a:endParaRPr>
          </a:p>
        </p:txBody>
      </p:sp>
      <p:pic>
        <p:nvPicPr>
          <p:cNvPr id="101" name="head_table" descr=""/>
          <p:cNvPicPr/>
          <p:nvPr/>
        </p:nvPicPr>
        <p:blipFill>
          <a:blip r:embed="rId1"/>
          <a:srcRect l="10793" t="13637" r="10793" b="13637"/>
          <a:stretch/>
        </p:blipFill>
        <p:spPr>
          <a:xfrm>
            <a:off x="457200" y="1066680"/>
            <a:ext cx="685800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Кинематика DMC80U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Для станков, у которых оси лежат не в перпендикулярных плоскостях, Вы должны использовать значение </a:t>
            </a:r>
            <a:r>
              <a:rPr b="1" i="1" lang="en-US" sz="1900" spc="-1" strike="noStrike">
                <a:solidFill>
                  <a:srgbClr val="ffff00"/>
                </a:solidFill>
                <a:latin typeface="Times New Roman"/>
              </a:rPr>
              <a:t>NONE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для плоскости оси и ввести направляющие косинусы или углы для задания оси вращения головки или стола.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ледующие строки определяют станок показаный на рисунке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7 и 8.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1800" spc="-1" strike="noStrike">
                <a:solidFill>
                  <a:srgbClr val="ffff00"/>
                </a:solidFill>
                <a:latin typeface="Times New Roman"/>
              </a:rPr>
              <a:t>set mom_kin_machine_type                    5_axis_head_table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1800" spc="-1" strike="noStrike">
                <a:solidFill>
                  <a:srgbClr val="ffff00"/>
                </a:solidFill>
                <a:latin typeface="Times New Roman"/>
              </a:rPr>
              <a:t>set mom_kin_4th_axis_plane                         NONE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1800" spc="-1" strike="noStrike">
                <a:solidFill>
                  <a:srgbClr val="ffff00"/>
                </a:solidFill>
                <a:latin typeface="Times New Roman"/>
              </a:rPr>
              <a:t>set mom_kin_4th_axis_center_offset(0)          0.0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1800" spc="-1" strike="noStrike">
                <a:solidFill>
                  <a:srgbClr val="ffff00"/>
                </a:solidFill>
                <a:latin typeface="Times New Roman"/>
              </a:rPr>
              <a:t>set mom_kin_4th_axis_center_offset(1)          0.0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1800" spc="-1" strike="noStrike">
                <a:solidFill>
                  <a:srgbClr val="ffff00"/>
                </a:solidFill>
                <a:latin typeface="Times New Roman"/>
              </a:rPr>
              <a:t>set mom_kin_4th_axis_center_offset(2)          0.0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1800" spc="-1" strike="noStrike">
                <a:solidFill>
                  <a:srgbClr val="ffff00"/>
                </a:solidFill>
                <a:latin typeface="Times New Roman"/>
              </a:rPr>
              <a:t>set mom_kin_4th_axis_rotation                     standard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1800" spc="-1" strike="noStrike">
                <a:solidFill>
                  <a:srgbClr val="ffff00"/>
                </a:solidFill>
                <a:latin typeface="Times New Roman"/>
              </a:rPr>
              <a:t>set mom_kin_4th_axis_zero_position             0.0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Использование направляющих косинусов: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1800" spc="-1" strike="noStrike">
                <a:solidFill>
                  <a:srgbClr val="ffff00"/>
                </a:solidFill>
                <a:latin typeface="Times New Roman"/>
              </a:rPr>
              <a:t>set mom_kin_4th_axis_vector(0)                      0.0000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1800" spc="-1" strike="noStrike">
                <a:solidFill>
                  <a:srgbClr val="ffff00"/>
                </a:solidFill>
                <a:latin typeface="Times New Roman"/>
              </a:rPr>
              <a:t>set mom_kin_4th_axis_vector(1)                      1.0000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1800" spc="-1" strike="noStrike">
                <a:solidFill>
                  <a:srgbClr val="ffff00"/>
                </a:solidFill>
                <a:latin typeface="Times New Roman"/>
              </a:rPr>
              <a:t>set mom_kin_4th_axis_vector(2)                      1.0000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Использование двух углов: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set mom_kin_4th_axis_angles(0)                     90.0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1800" spc="-1" strike="noStrike">
                <a:solidFill>
                  <a:srgbClr val="ffff00"/>
                </a:solidFill>
                <a:latin typeface="Times New Roman"/>
              </a:rPr>
              <a:t>set mom_kin_4th_axis_angles(1)                     45.0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d04"/>
                </a:solidFill>
                <a:latin typeface="Arial"/>
              </a:rPr>
              <a:t>Кинематика DMC80U (продолж.)</a:t>
            </a:r>
            <a:endParaRPr b="1" lang="en-US" sz="32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160" y="533160"/>
            <a:ext cx="8305560" cy="556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ледующие строки определяют станок показаный на рисунке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7 и 8.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Расстояние от точки измерения шпинделя до точки поворота (точки относительно которой вращается поворотная головка) задается с использованием массива переменных кинематики </a:t>
            </a:r>
            <a:r>
              <a:rPr b="1" i="1" lang="en-US" sz="1800" spc="-1" strike="noStrike">
                <a:solidFill>
                  <a:srgbClr val="ffff00"/>
                </a:solidFill>
                <a:latin typeface="Times New Roman"/>
              </a:rPr>
              <a:t>mom_kin_gauge_to_pivot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00"/>
                </a:solidFill>
                <a:latin typeface="Times New Roman"/>
              </a:rPr>
              <a:t>set  mom_kin_gauge_to_pivot(0)                XX       (X-Head Offset)</a:t>
            </a:r>
            <a:endParaRPr b="1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00"/>
                </a:solidFill>
                <a:latin typeface="Times New Roman"/>
              </a:rPr>
              <a:t>set  mom_kin_gauge_to_pivot(1)                YY       (Y-Head Offset)</a:t>
            </a:r>
            <a:endParaRPr b="1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00"/>
                </a:solidFill>
                <a:latin typeface="Times New Roman"/>
              </a:rPr>
              <a:t>set  mom_kin_gauge_to_pivot(2)                ZZ       (Z-Head Offset)</a:t>
            </a:r>
            <a:endParaRPr b="1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00"/>
                </a:solidFill>
                <a:latin typeface="Times New Roman"/>
              </a:rPr>
              <a:t>set  mom_kin_5th_axis_plane                                NONE</a:t>
            </a:r>
            <a:endParaRPr b="1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00"/>
                </a:solidFill>
                <a:latin typeface="Times New Roman"/>
              </a:rPr>
              <a:t>set  mom_kin_5th_axis_center_offset(0)                0</a:t>
            </a:r>
            <a:endParaRPr b="1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00"/>
                </a:solidFill>
                <a:latin typeface="Times New Roman"/>
              </a:rPr>
              <a:t>set  mom_kin_5th_axis_center_offset(1)                0.0</a:t>
            </a:r>
            <a:endParaRPr b="1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00"/>
                </a:solidFill>
                <a:latin typeface="Times New Roman"/>
              </a:rPr>
              <a:t>set  mom_kin_5th_axis_center_offset(2)                0.0</a:t>
            </a:r>
            <a:endParaRPr b="1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00"/>
                </a:solidFill>
                <a:latin typeface="Times New Roman"/>
              </a:rPr>
              <a:t>set  mom_kin_5th_axis_rotation                             standard</a:t>
            </a:r>
            <a:endParaRPr b="1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00"/>
                </a:solidFill>
                <a:latin typeface="Times New Roman"/>
              </a:rPr>
              <a:t>set  mom_kin_5th_axis_zero_position                    0.0</a:t>
            </a:r>
            <a:endParaRPr b="1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Использование направляющих косинусов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00"/>
                </a:solidFill>
                <a:latin typeface="Times New Roman"/>
              </a:rPr>
              <a:t>set mom_kin_5th_axis_vector(0)                </a:t>
            </a:r>
            <a:r>
              <a:rPr b="1" i="1" lang="en-US" sz="17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1700" spc="-1" strike="noStrike">
                <a:solidFill>
                  <a:srgbClr val="ffff00"/>
                </a:solidFill>
                <a:latin typeface="Times New Roman"/>
              </a:rPr>
              <a:t>      0.0000 </a:t>
            </a:r>
            <a:endParaRPr b="1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00"/>
                </a:solidFill>
                <a:latin typeface="Times New Roman"/>
              </a:rPr>
              <a:t>set mom_kin_5th_axis_vector(1)                 </a:t>
            </a:r>
            <a:r>
              <a:rPr b="1" i="1" lang="en-US" sz="17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1700" spc="-1" strike="noStrike">
                <a:solidFill>
                  <a:srgbClr val="ffff00"/>
                </a:solidFill>
                <a:latin typeface="Times New Roman"/>
              </a:rPr>
              <a:t>     0.0000 </a:t>
            </a:r>
            <a:endParaRPr b="1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00"/>
                </a:solidFill>
                <a:latin typeface="Times New Roman"/>
              </a:rPr>
              <a:t>set mom_kin_5th_axis_vector(2)                 </a:t>
            </a:r>
            <a:r>
              <a:rPr b="1" i="1" lang="en-US" sz="17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1700" spc="-1" strike="noStrike">
                <a:solidFill>
                  <a:srgbClr val="ffff00"/>
                </a:solidFill>
                <a:latin typeface="Times New Roman"/>
              </a:rPr>
              <a:t>    1.0000</a:t>
            </a:r>
            <a:endParaRPr b="1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Использование двух углов :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00"/>
                </a:solidFill>
                <a:latin typeface="Times New Roman"/>
              </a:rPr>
              <a:t>set mom_kin_5th_axis_angles(0)                </a:t>
            </a:r>
            <a:r>
              <a:rPr b="1" i="1" lang="en-US" sz="17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1700" spc="-1" strike="noStrike">
                <a:solidFill>
                  <a:srgbClr val="ffff00"/>
                </a:solidFill>
                <a:latin typeface="Times New Roman"/>
              </a:rPr>
              <a:t>    0.0 </a:t>
            </a:r>
            <a:endParaRPr b="1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00"/>
                </a:solidFill>
                <a:latin typeface="Times New Roman"/>
              </a:rPr>
              <a:t>set mom_kin_5th_axis_angles(1)                </a:t>
            </a:r>
            <a:r>
              <a:rPr b="1" i="1" lang="en-US" sz="17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1700" spc="-1" strike="noStrike">
                <a:solidFill>
                  <a:srgbClr val="ffff00"/>
                </a:solidFill>
                <a:latin typeface="Times New Roman"/>
              </a:rPr>
              <a:t>    0.0</a:t>
            </a:r>
            <a:endParaRPr b="1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Рисунок 9, Deckel Maho DMU70V 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pic>
        <p:nvPicPr>
          <p:cNvPr id="107" name="dmv1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641340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9172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d04"/>
                </a:solidFill>
                <a:latin typeface="Arial"/>
              </a:rPr>
              <a:t>Рисунок 10, Deckel Maho DMU70V Смещения</a:t>
            </a:r>
            <a:endParaRPr b="1" lang="en-US" sz="2800" spc="-1" strike="noStrike">
              <a:solidFill>
                <a:srgbClr val="ffcd04"/>
              </a:solidFill>
              <a:latin typeface="Arial"/>
            </a:endParaRPr>
          </a:p>
        </p:txBody>
      </p:sp>
      <p:pic>
        <p:nvPicPr>
          <p:cNvPr id="109" name="dmv" descr=""/>
          <p:cNvPicPr/>
          <p:nvPr/>
        </p:nvPicPr>
        <p:blipFill>
          <a:blip r:embed="rId1"/>
          <a:srcRect l="7230" t="10729" r="7230" b="10729"/>
          <a:stretch/>
        </p:blipFill>
        <p:spPr>
          <a:xfrm>
            <a:off x="304920" y="76212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Кинематика DMU70V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0769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76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Для станков, у которых оси лежат не в перпендикулярных плоскостях, Вы должны использовать значение </a:t>
            </a:r>
            <a:r>
              <a:rPr b="1" i="1" lang="en-US" sz="1900" spc="-1" strike="noStrike">
                <a:solidFill>
                  <a:srgbClr val="ffff00"/>
                </a:solidFill>
                <a:latin typeface="Times New Roman"/>
              </a:rPr>
              <a:t>NONE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для плоскости оси и ввести направляющие косинусы или углы для задания оси вращения головки или стола</a:t>
            </a: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1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76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ледующие строки определяют станок показаный на рисунке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9 и 10.</a:t>
            </a:r>
            <a:endParaRPr b="1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Times New Roman"/>
              </a:rPr>
              <a:t>set mom_kin_machine_type                      5_axis_dual_table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Times New Roman"/>
              </a:rPr>
              <a:t>set mom_kin_4th_axis_plane                         NONE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Times New Roman"/>
              </a:rPr>
              <a:t>set mom_kin_4th_axis_center_offset(0)          -1.0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Times New Roman"/>
              </a:rPr>
              <a:t>set mom_kin_4th_axis_center_offset(1)          100.0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Times New Roman"/>
              </a:rPr>
              <a:t>set mom_kin_4th_axis_center_offset(2)          75.0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Times New Roman"/>
              </a:rPr>
              <a:t>set mom_kin_4th_axis_rotation                     standard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Times New Roman"/>
              </a:rPr>
              <a:t>set mom_kin_4th_axis_zero_position             0.0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 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Использование направляющих косинусов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Times New Roman"/>
              </a:rPr>
              <a:t>set mom_kin_4th_axis_vector(0)                 0.0000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Times New Roman"/>
              </a:rPr>
              <a:t>set mom_kin_4th_axis_vector(1)                 -1.0000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Times New Roman"/>
              </a:rPr>
              <a:t>set mom_kin_4th_axis_vector(2)                 1.0000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Использование двух углов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Times New Roman"/>
              </a:rPr>
              <a:t>set mom_kin_4th_axis_angles(0)                 270.0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Times New Roman"/>
              </a:rPr>
              <a:t>set mom_kin_4th_axis_angles(1)                 45.0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d04"/>
                </a:solidFill>
                <a:latin typeface="Arial"/>
              </a:rPr>
              <a:t>Кинематика </a:t>
            </a: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DMU70V (продолж.)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160" y="76212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ледующие строки определяют станок показаный на рисунке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9 и 10.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Расстояние от центра оси С стола до точки  относительно которой вращается 4-я или независимая ось задается с использованием массива переменных кинематики </a:t>
            </a:r>
            <a:r>
              <a:rPr b="1" i="1" lang="en-US" sz="1800" spc="-1" strike="noStrike">
                <a:solidFill>
                  <a:srgbClr val="ffff00"/>
                </a:solidFill>
                <a:latin typeface="Times New Roman"/>
              </a:rPr>
              <a:t>mom_kin_5th_axis_center_offset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.  Обычно вектора вращения 4-й и 5-й оси компланарны.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Times New Roman"/>
              </a:rPr>
              <a:t>set mom_kin_5th_axis_plane                                         NONE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Times New Roman"/>
              </a:rPr>
              <a:t>set mom_kin_5th_axis_center_offset(0)                        1.0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Times New Roman"/>
              </a:rPr>
              <a:t>set mom_kin_5th_axis_center_offset(1)                        -100.0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Times New Roman"/>
              </a:rPr>
              <a:t>set   mom_kin_5th_axis_center_offset(2)                     -75.0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Times New Roman"/>
              </a:rPr>
              <a:t>set mom_kin_5th_axis_rotation                                    standard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Times New Roman"/>
              </a:rPr>
              <a:t>set mom_kin_5th_axis_zero_position                           0.0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Использование направляющих косинусов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Times New Roman"/>
              </a:rPr>
              <a:t>set mom_kin_5th_axis_vector(0)                 </a:t>
            </a:r>
            <a:r>
              <a:rPr b="1" i="1" lang="en-US" sz="1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1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1800" spc="-1" strike="noStrike">
                <a:solidFill>
                  <a:srgbClr val="ffff00"/>
                </a:solidFill>
                <a:latin typeface="Times New Roman"/>
              </a:rPr>
              <a:t>0.0000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Times New Roman"/>
              </a:rPr>
              <a:t>set mom_kin_5th_axis_vector(1)                 </a:t>
            </a:r>
            <a:r>
              <a:rPr b="1" i="1" lang="en-US" sz="1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1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1800" spc="-1" strike="noStrike">
                <a:solidFill>
                  <a:srgbClr val="ffff00"/>
                </a:solidFill>
                <a:latin typeface="Times New Roman"/>
              </a:rPr>
              <a:t>0.0000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Times New Roman"/>
              </a:rPr>
              <a:t>set mom_kin_5th_axis_vector(2)                 </a:t>
            </a:r>
            <a:r>
              <a:rPr b="1" i="1" lang="en-US" sz="1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1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1800" spc="-1" strike="noStrike">
                <a:solidFill>
                  <a:srgbClr val="ffff00"/>
                </a:solidFill>
                <a:latin typeface="Times New Roman"/>
              </a:rPr>
              <a:t>1.0000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Использование двух углов: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Times New Roman"/>
              </a:rPr>
              <a:t>set mom_kin_5th_axis_angles(0)                 </a:t>
            </a:r>
            <a:r>
              <a:rPr b="1" i="1" lang="en-US" sz="1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1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1800" spc="-1" strike="noStrike">
                <a:solidFill>
                  <a:srgbClr val="ffff00"/>
                </a:solidFill>
                <a:latin typeface="Times New Roman"/>
              </a:rPr>
              <a:t>0.0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Times New Roman"/>
              </a:rPr>
              <a:t>set mom_kin_5th_axis_angles(1)                 </a:t>
            </a:r>
            <a:r>
              <a:rPr b="1" i="1" lang="en-US" sz="1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1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1800" spc="-1" strike="noStrike">
                <a:solidFill>
                  <a:srgbClr val="ffff00"/>
                </a:solidFill>
                <a:latin typeface="Times New Roman"/>
              </a:rPr>
              <a:t>0.0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001000" cy="52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Параметры осей вращенияя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ffff00"/>
                </a:solidFill>
                <a:latin typeface="Times New Roman"/>
              </a:rPr>
              <a:t>Независимя ось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это ось вращения которая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НЕ изменяет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своей ориентации или плоскости вращения при перемещении другой поворотной оси. Однако при кинематической схеме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Головка-Стол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  5-осевого станка (рисуноки-5 &amp; 7) , поворотная головка должна описыватся как независимая или 4-я ось.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Ось </a:t>
            </a:r>
            <a:r>
              <a:rPr b="1" i="1" lang="en-US" sz="2900" spc="-1" strike="noStrike">
                <a:solidFill>
                  <a:srgbClr val="ffff00"/>
                </a:solidFill>
                <a:latin typeface="Times New Roman"/>
              </a:rPr>
              <a:t>C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не может назначатся как 4-я ось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ffff00"/>
                </a:solidFill>
                <a:latin typeface="Times New Roman"/>
              </a:rPr>
              <a:t>Зависимая ось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(или 5-я ось) это ось вращения которая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изменяет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свою ориентацию или плоскость вращения при перемещении другой поворотной оси.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Рисунок 5, Головка Стол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pic>
        <p:nvPicPr>
          <p:cNvPr id="49" name="headtable1" descr=""/>
          <p:cNvPicPr/>
          <p:nvPr/>
        </p:nvPicPr>
        <p:blipFill>
          <a:blip r:embed="rId1"/>
          <a:stretch/>
        </p:blipFill>
        <p:spPr>
          <a:xfrm>
            <a:off x="838080" y="1295280"/>
            <a:ext cx="608328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Рисунок 7, Deckel Maho, DMC80U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pic>
        <p:nvPicPr>
          <p:cNvPr id="51" name="dm_U1" descr=""/>
          <p:cNvPicPr/>
          <p:nvPr/>
        </p:nvPicPr>
        <p:blipFill>
          <a:blip r:embed="rId1"/>
          <a:stretch/>
        </p:blipFill>
        <p:spPr>
          <a:xfrm>
            <a:off x="838080" y="1295280"/>
            <a:ext cx="62485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Смещения центра 4-й оси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Массив </a:t>
            </a:r>
            <a:r>
              <a:rPr b="1" i="1" lang="en-US" sz="2600" spc="-1" strike="noStrike">
                <a:solidFill>
                  <a:srgbClr val="ffff00"/>
                </a:solidFill>
                <a:latin typeface="Times New Roman"/>
              </a:rPr>
              <a:t>mom_kin_4th_axis_center_offse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содержит величины смещений центра 4-й оси относительно нулевой точки станка.  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Для правильного пересчета координат из системы кординат детали в систему координат станка, эти значения должны быть заданы правильно.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Эти значения задают расстояния от нолевой точки станка до центра вращения 4-й оси.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ff00"/>
                </a:solidFill>
                <a:latin typeface="Times New Roman"/>
              </a:rPr>
              <a:t>mom_kin_4th_axis_center_offset(0)  X расстояние mom_kin_4th_axis_center_offset(1)  Y расстояние mom_kin_4th_axis_center_offset(2)  Z расстояние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001000" cy="52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Смещение центра 5-й оси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Массив </a:t>
            </a:r>
            <a:r>
              <a:rPr b="1" i="1" lang="en-US" sz="2500" spc="-1" strike="noStrike">
                <a:solidFill>
                  <a:srgbClr val="ffff00"/>
                </a:solidFill>
                <a:latin typeface="Times New Roman"/>
              </a:rPr>
              <a:t>mom_kin_5th_axis_center_offse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(расстояние от центра 4-й оси до центра 5-й оси), содержит значения смещений и они используются для указания, что 5-я ось вращения не пересекается с 4-й осью вращения.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ри определении этого вектора, обе оси должны находится в нулевой позиции. Значения могут включать две координаты, но обычно одна.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Этот перпендикулярный вектор измеряется в плоскости 4-й оси от оси вращения 4-й оси до оси вращения 5-й оси.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500" spc="-1" strike="noStrike">
                <a:solidFill>
                  <a:srgbClr val="ffff00"/>
                </a:solidFill>
                <a:latin typeface="Times New Roman"/>
              </a:rPr>
              <a:t>mom_kin_5th_axis_center_offset(0)</a:t>
            </a:r>
            <a:r>
              <a:rPr b="1" lang="en-US" sz="2500" spc="-1" strike="noStrike">
                <a:solidFill>
                  <a:srgbClr val="ffff00"/>
                </a:solidFill>
                <a:latin typeface="Times New Roman"/>
              </a:rPr>
              <a:t>    X расстояние </a:t>
            </a:r>
            <a:r>
              <a:rPr b="1" i="1" lang="en-US" sz="2500" spc="-1" strike="noStrike">
                <a:solidFill>
                  <a:srgbClr val="ffff00"/>
                </a:solidFill>
                <a:latin typeface="Times New Roman"/>
              </a:rPr>
              <a:t>mom_kin_5th_axis_center_offset(1)</a:t>
            </a:r>
            <a:r>
              <a:rPr b="1" lang="en-US" sz="2500" spc="-1" strike="noStrike">
                <a:solidFill>
                  <a:srgbClr val="ffff00"/>
                </a:solidFill>
                <a:latin typeface="Times New Roman"/>
              </a:rPr>
              <a:t>    Y расстояние </a:t>
            </a:r>
            <a:r>
              <a:rPr b="1" i="1" lang="en-US" sz="2500" spc="-1" strike="noStrike">
                <a:solidFill>
                  <a:srgbClr val="ffff00"/>
                </a:solidFill>
                <a:latin typeface="Times New Roman"/>
              </a:rPr>
              <a:t>mom_kin_5th_axis_center_offset(2)</a:t>
            </a:r>
            <a:r>
              <a:rPr b="1" lang="en-US" sz="2500" spc="-1" strike="noStrike">
                <a:solidFill>
                  <a:srgbClr val="ffff00"/>
                </a:solidFill>
                <a:latin typeface="Times New Roman"/>
              </a:rPr>
              <a:t>    Z расстояние</a:t>
            </a:r>
            <a:endParaRPr b="1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Оси вращения (Стандарт или реверс)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55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Этот параметр управляет тем, как UGPost преобразует информацию i,j,k ориентации оси инструмента в позицию поворота.  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55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Большинство станков с ЧПУ используют опцию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Standard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, т.е. Вращение или наклон по часовой стрелке на больший угол.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Когда Вы сомневаетесь, всегда используйте опцию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Standard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если данные неправильные для вашего станка)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ледующие рекомендации могут использоваться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Если в плоскости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X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ось </a:t>
            </a:r>
            <a:r>
              <a:rPr b="1" lang="en-US" sz="2000" spc="-1" strike="noStrike">
                <a:solidFill>
                  <a:srgbClr val="fdd700"/>
                </a:solidFill>
                <a:latin typeface="Times New Roman"/>
              </a:rPr>
              <a:t>Z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смотрит вниз от положительного направления к отрицательному, вращение по часовой стелке в больший угол означает 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Standard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Если в плоскости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ZX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ось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Y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смотрит вниз от положительного направления к отрицательному, вращение по часовой стелке в больший угол означает 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Standard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Если в плоскости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YZ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ось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X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смотрит вниз от положительного направления к отрицательному, вращение по часовой стелке в больший угол означает 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Standard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26T22:37:00Z</dcterms:created>
  <dc:creator>Richard W. Schenk</dc:creator>
  <dc:description/>
  <dc:language>en-US</dc:language>
  <cp:lastModifiedBy>Administrator</cp:lastModifiedBy>
  <cp:lastPrinted>1998-06-16T23:54:26Z</cp:lastPrinted>
  <dcterms:modified xsi:type="dcterms:W3CDTF">2002-02-12T11:32:20Z</dcterms:modified>
  <cp:revision>113</cp:revision>
  <dc:subject/>
  <dc:title>No Slide Title</dc:title>
</cp:coreProperties>
</file>