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Файл описания для UG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оледовательность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15520" cy="4648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  seq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1 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  seq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дрес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447920"/>
            <a:ext cx="771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 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&lt;Always | Once | Off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number &lt;Abort | Warning | Truncat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number &lt;Abort | Warning | Truncat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ERO_FORM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дрес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motion_g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9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G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 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Шаблон кадр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828800"/>
            <a:ext cx="84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_N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Address_Expressio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nows \opt \ldr=str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trl1 =str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Шаблон кадр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cle_dril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_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sys_cycle_drill_cod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cycle_fedto_pos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cycle_fedto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 cycle_fedto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 cycle_rapto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feed_rat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оды ЧПУ с пробелами между адрес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оды ЧПУ без пробелов между адрес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2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52388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Нумерация кадров  (10,20,30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чальный номер 10 и приращение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0 G1 X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20 Y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30 Y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Нумерация кадров (5,..,15,...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чальный номер 5, приращение 10, и вывод в каждом втором кад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5 G1 X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5 Y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3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Формат нумерации кадров (10,20,30,4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 ведущих ну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Формат нумерации кадров (0010,0020,0030,004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дущие нули выводя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оординаты с 5 знаками слева, 3 знаками справа от десятичной точки, без ведущих нулей, с незначащими нулями и без десятичной то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оординаты с 4 знаками слева, 4 знаками справа от десятичной точки, с ведущими и с незначащими нулями и без десятичной то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4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1 Y...   X....    Z.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енить адреса x и 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линейных пермещени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1 Z...   X....    Y.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водить Z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й для линейных пермещени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5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место “G1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G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место “G0” для перемещения xy - “rapi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айл описа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15520" cy="1752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файле описания задается формат и содержание кадров, которые выводятся из UG 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99560" y="2819520"/>
            <a:ext cx="311148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ук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рм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дре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локи шабл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ключ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6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X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X-Coor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если F больше 10, система должна останавливать вывод и выводить сообщение об ошиб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7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82880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Сделайте так, чтобы адрес X выводился во всех кадрах переме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8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Сделайте выво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,J,K как координат центра окружности в кадрах круговой интерполя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ORD_SEPARATOR “ 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ORD_SEPARATOR “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seqn 10 10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seqn 5 10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44792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Naddress “&amp;__4___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Naddress “&amp;__40__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N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Coordinate “&amp;__5_3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Coordinate “&amp;+04_4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[$mom_sys_linear_code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[$mom_sys_linear_code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38080"/>
            <a:ext cx="7944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[1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t mom_sys_linear_code 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CK_TEMPLATE rapid_xy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pid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6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“X-Coor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F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10 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7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Al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ACHINE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cd04"/>
                </a:solidFill>
                <a:latin typeface="Arial"/>
              </a:rPr>
              <a:t>nam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_1, name_2, ..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ING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_SEPARATOR 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_OF_LINE 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 ...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OCK_TEMPLA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{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8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52388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circle  {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tion_g [$mom_sys_circle_code($mom_arc_direction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[$mom_pos_arc_center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[$mom_pos_arc_center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[$mom_pos_arc_center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[$mom_feed_rat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96600"/>
            <a:ext cx="830592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Исходные данные от других станков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LU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_1, name_2, ..., name_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_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имя существующего файла описа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а будет использовать этот файл в загруженном файл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Элементы файла описа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715160" cy="4419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_SEPARATOR   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ока между каждым адрес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D_OF_LINE  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ока в конце каждого кадр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 start increment frequ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имя кадра шаблона для номера кадр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r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начальное знач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crement frequ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приращ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частота вывод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NUMBER 1 1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исание формата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amp;abcde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+ or _   “+”  указывает выводить знак плюс,  “_” указывает подавить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знак плю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0 or _   “0”  указывает выводить ведущие нули,  “_” указывает не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выводить ведущие нул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{0,1,…,9}    Максимальное кол-во знаков слева от десятичной точк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 . or  _   “.” указывает выводить десятичную точку,  “_” указывает не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выводить десятичную точк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{0,1,…,9}    Максимальное кол-во знаков справа от десятичной точк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0 or _ , “0”  указывает выводить незначащие нули,  “_” указывает н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выводить незначащие нул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ормат языка C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 доступные форматы команды printf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зыка 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  Feed       “&amp;__4.2_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rdinate   “&amp;__3.4_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т формат выводит число без знака плюс без ведущих и незначащих нулей, 3 знака слева от десятичной точки и 4 знака справа от десятичной точк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12.3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 name C_Format_Strin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 стро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hello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= цело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5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число с плавающей точко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3.14...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 = экспонен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1e2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0i,j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= смещение 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= общая длин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= точ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 нул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32756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ADDRESS X 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ZERO_FORMAT zero_co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MAT Coordin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X    9999.9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MIN    -9999.9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CE  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а опция позволяет пользователям управлять, как выводится нулевые координаты. Zero_format используется для вывода только когда значение, которое нужно вывести - нуль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zero_coord  “0_01.0_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8-06-16T23:32:30Z</cp:lastPrinted>
  <dcterms:modified xsi:type="dcterms:W3CDTF">2000-06-17T15:09:28Z</dcterms:modified>
  <cp:revision>100</cp:revision>
  <dc:subject/>
  <dc:title>No Slide Title</dc:title>
</cp:coreProperties>
</file>