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rcRect l="0" t="0" r="0" b="11314"/>
          <a:stretch/>
        </p:blipFill>
        <p:spPr>
          <a:xfrm>
            <a:off x="7620120" y="6095880"/>
            <a:ext cx="13716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18284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Файл описания событий задаваемых пользователем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новое событие задаваемое пользователем следующего формата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грузка новой системы координат (G54…G59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обработчик событий, который выводит команду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59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новое событие задаваемое пользователем следующего формата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зка регистра смещения прижим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обработчик событий, который выводит команду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1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VENT coolant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ST_EVENT "coolant_on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Coolant On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VAL "Active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TIONS "Active","Inactive","User Defined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M coolant_mod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VAL "Flood“  </a:t>
            </a:r>
            <a:r>
              <a:rPr b="1" lang="en-US" sz="1800" spc="-1" strike="noStrike">
                <a:solidFill>
                  <a:srgbClr val="d8000a"/>
                </a:solidFill>
                <a:latin typeface="Times New Roman"/>
              </a:rPr>
              <a:t>&lt;&lt; “Mist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TIONS "On","Flood","Mist","Tap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Type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 UDE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NT sys_offs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ST_EVENT "csys_load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Co-ordinate Sys Offset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TEGORY Mill Dril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"Active",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sys_register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 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54“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“54”,”55”,”56”,”57”,”58”,”59”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Co-ordinate System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 Обработчик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tcl файл добавьте в процедуру MOM_initial_move строку 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do_template path_sta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def файл добавьте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CK_TEMPLATE path_start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[00] G[90] G[$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m_csys_regis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3 UDE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NT fixt_load_offs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ST_EVENT “fixt_load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“Load Fixture Offset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TEGORY Mill Dril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"Active",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fixt_register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  i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“22“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GGLE Off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“Fixture Offset Register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3 Обработчик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 e_code  "&amp;__2_0_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E 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e_cod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    9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CE  of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CK_TEMPLATE rapid_xy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_motion[$mom_sys_rapid_cod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[$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m_fixt_regis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]\op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 (UDE)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описывают формат АРТ подобных постпроцессорных коман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UDEs описываются в файле ude.cdl который располагается в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$UGII_BASE_DIR/mach/resource/user_def_event/ude.cd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могут задаватся в начале или в конце траектории, или присоединятся к любому САМ объекту (программа, инструмент, станок, и т.д.) с использованием меню Управления станк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генерируют события в UG Post со всеми данными, которые он преобразует в mom переменны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7913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</a:t>
            </a:r>
            <a:endParaRPr b="1" lang="en-US" sz="24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657600"/>
            <a:ext cx="8839440" cy="256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 spindl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_LABEL "Spindle On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EGORY MILL DRILL LA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AM command_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VAL "Activ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"Active","Inactive","User Define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_LABEL "Status”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594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события определяются в ude.cdl фай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ответствующая процедура вывода требуется в файле .tc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ребуется включение в.def 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айл ude.cdl выбирается в конфигурационном фай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46944"/>
          <a:stretch/>
        </p:blipFill>
        <p:spPr>
          <a:xfrm>
            <a:off x="5943600" y="152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609480"/>
            <a:ext cx="1981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интаксис UD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 &lt;nam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T_EVENT &lt;post_nam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_LABEL &lt;ui_nam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ASS Type, subtype, subtype; Type, subtype, subtype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EGORY Mill | Drill | Lathe | WED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1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YPE i | d | s | o | p DEFVAL &lt;default value as string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GGLE Off | 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ONS &lt;string1, string2, string3.......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_LABEL &lt;ui_nam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2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3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EV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name&gt;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дает имя событи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"name"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POST_EV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post_name&gt; определяет как событие "name" будет выводится в ПП как событие с именем "post_name".  Этот атрибут события EVENT является опциональным и если не задан, событие выводится в ПП под именем "name"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UI_LAB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ui_name&gt; задает название события строкой "ui_name". Этот атрибут события EVENT является опциональным, и если он не задан название события совпадает с его именем : "ui_name” = "name"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CLAS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атрибут задает подтип операций для которых данное событие доступно. Тип и подтип должны соответствовать текущему шаблону операций. Этот атрибут является опциональным, и если он не задан, событие доступно для всех типов и подтипов операций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CATEG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атрибут задает тип обработки (фрезерная, токарная, ээо, и т.д.) в которой это событие доступно. Этот атрибут является опциональным.  В событии может быть задано более одного типа обработки. Если этот атрибут не задан, событие доступно для всех типов обработки.  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ARA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&lt;param_name1&gt; задает переметр события. Параметр имее имя "param_name1"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YP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это атрибут опции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RA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и он определяет тип параметра. Возможны следующие типы 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целое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вещественно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строк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одна из опций меню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точк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FV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default value as a string&gt; задает значение параметра по умолчанию. Этот параметр является опциональным и если он не задан используются следующиие значения в зависимости от типа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значение по умолчанию 0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значение по умолчанию 0.0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значение по умолчанию  - пустая строк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значение по умолчанию - первый элемент списк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значение по умолчанию  - не применимо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8600"/>
            <a:ext cx="822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OGG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вляется атрибутом параметра, который определяет значение по умолчанию и что значение по умолчанию Вкл. или Выкл. Атрибут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OGG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является опциональны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и если от не задан используется значение Вкл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OPTIO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этот параметр требуется если TYPE установлен в 'o'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обеспечивает все возможные значения, которые параметр может имет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 Значения опций должны перечислятся через запятую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I_LAB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&lt;ui_name&gt; задает как "ui_name" будет отображатся в меню. Этот переметр является опциональным и если он не задан используется параметр "param_name1"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238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d04"/>
                </a:solidFill>
                <a:latin typeface="Arial"/>
              </a:rPr>
              <a:t>UDE используется в других местах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647676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бавление ПП команд в програме, инструменте, операции и т.д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бавление в меню настрой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467080"/>
            <a:ext cx="34671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5133960"/>
            <a:ext cx="20098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19680" y="2490840"/>
            <a:ext cx="3409920" cy="299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0" b="78920"/>
          <a:stretch/>
        </p:blipFill>
        <p:spPr>
          <a:xfrm>
            <a:off x="5429160" y="5234040"/>
            <a:ext cx="2009880" cy="116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934320" y="676440"/>
            <a:ext cx="2009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значение по умолчанию для coolant в mi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1:45:23Z</dcterms:created>
  <dc:creator>Mark Rief</dc:creator>
  <dc:description/>
  <dc:language>en-US</dc:language>
  <cp:lastModifiedBy>TSSDEMO</cp:lastModifiedBy>
  <cp:lastPrinted>2000-01-27T15:27:42Z</cp:lastPrinted>
  <dcterms:modified xsi:type="dcterms:W3CDTF">2000-06-18T09:47:59Z</dcterms:modified>
  <cp:revision>94</cp:revision>
  <dc:subject/>
  <dc:title>CAM Wizards - Why?</dc:title>
</cp:coreProperties>
</file>