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60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2688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EFC32C-873B-4285-8795-F4516FF7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BDA5E2-E4F4-4BC3-BF00-DA72226D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3048F9-94FC-47E0-9870-714725FB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73C0BB-876D-42A1-B9FD-4275A7CA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F26EF61-509A-4627-8A21-63EA6EA1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D5DA20B-2887-445E-9C5F-420F1724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77154B-A52F-4CB3-BC8B-96AEDB93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B6048C-D2CC-4CA7-BEE3-5FA374A9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9D645F-FBCF-44BE-9C04-046B65B9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32E3B7-7F76-42BF-A1F8-FDB11CEF6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176B05-9DE9-4897-9207-4BB1EA6E6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93B52C-E305-49D3-BE3B-3F34355B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CA6390-F9FC-4D05-98AE-2B3FDC250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097BB5-28B1-4D48-B187-7F44E4289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70B864-D9AE-4919-BC3E-E03E056E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AA8C6A-0D99-481F-B249-5CAB8295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3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2E5BFF-9642-4E13-BC8A-57AEC554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038FE4-E798-45FC-8A96-82D19878A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1E6288-26D3-47E0-8BE4-A49F783D2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DE8D9B2-47C3-4355-A9B6-28AB8986A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3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DB1E9D-0F6D-4D95-8557-EE8F0F84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081F87-4E25-4E36-9483-6F27045AB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F42E05-1727-4EBB-9C83-60A88B59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5327E6-02A4-4DB6-A158-B6ADDD5B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A4DDA2-EC74-449F-BC51-0A21839E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0AE583-6178-4F08-A2C1-ED18C7E0B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D50721-88EF-4508-B021-3CC73A2E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CC8550-40F4-4E45-8A10-F93CFB93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38400" y="70020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1E61491-EAC3-4BA8-87FC-787B0EA28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272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d04"/>
                </a:solidFill>
                <a:latin typeface="Arial"/>
              </a:rPr>
              <a:t>Постпроцессирование</a:t>
            </a: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 с помощью UG POST</a:t>
            </a:r>
            <a:r>
              <a:rPr b="1" lang="en-US" sz="5400" spc="-1" strike="noStrike">
                <a:solidFill>
                  <a:srgbClr val="ffcd04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ж Оле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: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Created By:    murgolo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TASK: /cam/v130/post_demo/demo.prt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Creation Date: Thu May 29 17:17:35 1997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54 H0 D0 T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0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-----------------------------------------------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Start path: PROFILE with tool: MILL-.5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-----------------------------------------------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02 G28 X0.0000 Y0.0000 G49 Z0.0000 M04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12 T0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22 G01 X-4.1970 Y3.4533 F50.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32 G00 G43 Z2.1 M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42 Z1.6 F5.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280" y="15238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52 Z1.5 F2.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62 X-3.847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72 X3.8470 F3.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82 G02 X4.3470 Y2.9533 I0.5 J0.0 K0.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92 G01 Y-2.076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102 G02 X3.8470 Y-2.5763 I0.0 J-0.5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112 G01 X-3.847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122 Z2.2 F5000.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132 X-4.0762 Y3.5534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462 G03 X-4.047 Y-2.4263 I-0.2 J0.15 F1000.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472 (End Of Path PROFILE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482 M3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Архитектура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736720"/>
            <a:ext cx="1542960" cy="325764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73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Обработчик событ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523880"/>
            <a:ext cx="297180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Файл опис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486400"/>
            <a:ext cx="1676520" cy="82224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Выходной </a:t>
            </a:r>
            <a:br>
              <a:rPr sz="2400"/>
            </a:b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59040" y="4086000"/>
            <a:ext cx="1852920" cy="12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9040" y="4862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9040" y="448164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13400" y="3352680"/>
            <a:ext cx="147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Имя собы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83040" y="3719520"/>
            <a:ext cx="120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переме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83040" y="4086360"/>
            <a:ext cx="120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переме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83040" y="4452840"/>
            <a:ext cx="120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переме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087680" y="2744640"/>
            <a:ext cx="30348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02320" y="51069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1413000"/>
            <a:ext cx="6477120" cy="1447560"/>
          </a:xfrm>
          <a:prstGeom prst="rect">
            <a:avLst/>
          </a:prstGeom>
          <a:noFill/>
          <a:ln w="38160">
            <a:solidFill>
              <a:srgbClr val="00dfc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9907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User Def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2057400"/>
            <a:ext cx="131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U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542960" cy="32576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96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Линей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перемещ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1523880"/>
            <a:ext cx="297180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Форм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G01 X# Y# Z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486400"/>
            <a:ext cx="2133720" cy="82224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G01 X1. Y2. Z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3720" y="3886200"/>
            <a:ext cx="7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(1,2,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087680" y="2744640"/>
            <a:ext cx="30348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02320" y="51069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191120"/>
            <a:ext cx="1066680" cy="703800"/>
          </a:xfrm>
          <a:prstGeom prst="rect">
            <a:avLst/>
          </a:prstGeom>
          <a:solidFill>
            <a:srgbClr val="d80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GOTO/1,2,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Архитектура UG P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Архитектура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 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2736720"/>
            <a:ext cx="1542960" cy="3257640"/>
            <a:chOff x="457200" y="2736720"/>
            <a:chExt cx="1542960" cy="32576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7200" y="2736720"/>
              <a:ext cx="15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61960" y="3778200"/>
              <a:ext cx="132084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Лин.перем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x = 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 = 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z = 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117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 Linear_Mov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1523880"/>
            <a:ext cx="3124080" cy="14479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Socket %0.3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re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Format Socket Min 0 Max 55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OCK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 G01 X[$x] Y[$y] Z[$z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486400"/>
            <a:ext cx="1981080" cy="82224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01 X100. Y50. Z7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659040" y="4086000"/>
            <a:ext cx="1852920" cy="12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9040" y="4862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9040" y="448164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9240" y="335268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Linear_M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83040" y="3719520"/>
            <a:ext cx="8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x =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3040" y="4086360"/>
            <a:ext cx="7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y = 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82680" y="4452840"/>
            <a:ext cx="76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z =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2973240"/>
            <a:ext cx="0" cy="455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02320" y="51069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09520"/>
            <a:ext cx="7696080" cy="1114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UG читает команду из траектории и генерирует соответствующее событие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 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200" y="2736720"/>
            <a:ext cx="1542960" cy="3257640"/>
            <a:chOff x="457200" y="2736720"/>
            <a:chExt cx="1542960" cy="325764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57200" y="2736720"/>
              <a:ext cx="15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1960" y="3778200"/>
              <a:ext cx="132084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Лин. Перем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x = 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 = 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z = 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141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 Linear_Mov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1523880"/>
            <a:ext cx="3124080" cy="14479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Socket %0.3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re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Format Socket Min 0 Max 55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OCK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 G01 X[$x] Y[$y] Z[$z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5486400"/>
            <a:ext cx="1981080" cy="82224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01 X100. Y50. Z7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659040" y="4086000"/>
            <a:ext cx="1852920" cy="12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9040" y="4862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9040" y="448164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29240" y="335268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Linear_M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3040" y="3719520"/>
            <a:ext cx="8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x =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83040" y="4086360"/>
            <a:ext cx="7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y = 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82680" y="4452840"/>
            <a:ext cx="76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z =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2973240"/>
            <a:ext cx="0" cy="455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02320" y="51069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824280"/>
            <a:ext cx="380880" cy="36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82680" y="3916440"/>
            <a:ext cx="1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1520" y="380880"/>
            <a:ext cx="77148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5480" y="530280"/>
            <a:ext cx="40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dfca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09520"/>
            <a:ext cx="7696080" cy="1114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Генератор событий посылает событие в UG Post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 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2743200"/>
            <a:ext cx="1542960" cy="3257640"/>
            <a:chOff x="457200" y="2743200"/>
            <a:chExt cx="1542960" cy="325764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457200" y="2743200"/>
              <a:ext cx="15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61960" y="3784680"/>
              <a:ext cx="132084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Лин.перем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x = 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 = 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z = 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169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 Linear_Mov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1523880"/>
            <a:ext cx="3124080" cy="14479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Socket %0.3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re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Format Socket Min 0 Max 55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OCK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 G01 X[$x] Y[$y] Z[$z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486400"/>
            <a:ext cx="2133720" cy="82224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01 X100. Y50. Z7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59040" y="4086000"/>
            <a:ext cx="1852920" cy="12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9040" y="4862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9040" y="448164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29240" y="335268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Linear_M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83040" y="3719520"/>
            <a:ext cx="8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x =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83040" y="4086360"/>
            <a:ext cx="7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y = 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82680" y="4452840"/>
            <a:ext cx="76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z =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6600" y="2973240"/>
            <a:ext cx="0" cy="455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02320" y="51069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9000" y="4114800"/>
            <a:ext cx="380880" cy="36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1520" y="380880"/>
            <a:ext cx="77148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dfca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09520"/>
            <a:ext cx="7696080" cy="1114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UG Post передает событие в рбработчик событий, который определяет, что делать.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2736720"/>
            <a:ext cx="1542960" cy="3257640"/>
            <a:chOff x="457200" y="2736720"/>
            <a:chExt cx="1542960" cy="325764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457200" y="2736720"/>
              <a:ext cx="15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61960" y="3778200"/>
              <a:ext cx="132084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Лин.перем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x = 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 = 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z = 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195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 Linear_Mov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1523880"/>
            <a:ext cx="3124080" cy="14479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Socket %0.3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re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Format Socket Min 0 Max 55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OCK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 G01 X[$x] Y[$y] Z[$z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486400"/>
            <a:ext cx="1981080" cy="82224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01 X100. Y50. Z7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659040" y="4086000"/>
            <a:ext cx="1852920" cy="12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9040" y="4862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9040" y="448164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29240" y="335268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Linear_M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83040" y="3719520"/>
            <a:ext cx="8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x =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83040" y="4086360"/>
            <a:ext cx="7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y = 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82680" y="4452840"/>
            <a:ext cx="76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z =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2973240"/>
            <a:ext cx="0" cy="455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02320" y="51069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2971800"/>
            <a:ext cx="380880" cy="36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380880"/>
            <a:ext cx="77148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dfc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09520"/>
            <a:ext cx="7696080" cy="1114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UG Post читает шаблон кадра ‘Linear’ и использует заданный в нем формат в выходном кадре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7200" y="2736720"/>
            <a:ext cx="1542960" cy="3257640"/>
            <a:chOff x="457200" y="2736720"/>
            <a:chExt cx="1542960" cy="3257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457200" y="2736720"/>
              <a:ext cx="15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61960" y="3778200"/>
              <a:ext cx="132084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Лин.перем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x = 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 = 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z = 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221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 Linear_Mov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1523880"/>
            <a:ext cx="3124080" cy="14479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Socket %0.3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re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Format Socket Min 0 Max 55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OCK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 G01 X[$x] Y[$y] Z[$z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5486400"/>
            <a:ext cx="2057400" cy="82224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01 X100. Y50. Z7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659040" y="4086000"/>
            <a:ext cx="1852920" cy="12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9040" y="4862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9040" y="448164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29240" y="335268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Linear_M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3040" y="3719520"/>
            <a:ext cx="8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x =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83040" y="4086360"/>
            <a:ext cx="7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y = 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82680" y="4452840"/>
            <a:ext cx="76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z =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2973240"/>
            <a:ext cx="0" cy="455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02320" y="51069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88120" y="2986200"/>
            <a:ext cx="381240" cy="366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1520" y="380880"/>
            <a:ext cx="77148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dfca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209520"/>
            <a:ext cx="7696080" cy="1114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67"/>
                </a:solidFill>
                <a:latin typeface="Arial"/>
              </a:rPr>
              <a:t>UG Post выводит кадр в выходной файл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Данные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200" y="2736720"/>
            <a:ext cx="1542960" cy="3257640"/>
            <a:chOff x="457200" y="2736720"/>
            <a:chExt cx="1542960" cy="325764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457200" y="2736720"/>
              <a:ext cx="15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61960" y="3778200"/>
              <a:ext cx="132084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Лин.перем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x = 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y = 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z = 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247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 Linear_Mov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1523880"/>
            <a:ext cx="3124080" cy="144792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Socket %0.3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re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Format Socket Min 0 Max 55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OCK_TEMPLATE Li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 G01 X[$x] Y[$y] Z[$z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5578560"/>
            <a:ext cx="2057400" cy="822240"/>
          </a:xfrm>
          <a:prstGeom prst="rect">
            <a:avLst/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01 X100. Y50. Z7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9040" y="3719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659040" y="4086000"/>
            <a:ext cx="1852920" cy="12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9040" y="486252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9040" y="4481640"/>
            <a:ext cx="1852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29240" y="335268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Linear_M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83040" y="3719520"/>
            <a:ext cx="8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x =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83040" y="4086360"/>
            <a:ext cx="7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y = 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82680" y="4452840"/>
            <a:ext cx="76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z =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2880" y="37195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106960" y="2744280"/>
            <a:ext cx="760320" cy="684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2973240"/>
            <a:ext cx="0" cy="455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02320" y="5106960"/>
            <a:ext cx="0" cy="471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5181480"/>
            <a:ext cx="380880" cy="36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1520" y="380880"/>
            <a:ext cx="77148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dfca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сновная концепция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быт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енератор событий Unigraphic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работчик событи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айл описа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азделы UG 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зор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рхитектура UG Post (MO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стройка Вашей систем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енератор событ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айл описа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осевая кинематик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ботчик событ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ытия задаваемые пользователе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становка WIS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нструменты отладк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лед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нератор ПП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 Build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обыт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ытие - это данные, которые извлекаются из файла части UG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ждое событие связано с набором переменных, которые различны для каждого события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ждое событие описывается в генераторе событий, это моответствующая исполняемая Tcl процедура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пример, переменные x,y,z линейного перемещения в UG определяют конечную позицию в событии линейного перемещения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и переменные посылаются в обработчик событий как глобальные переменные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переменные доступны всем процедурам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Генератор событий 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nigraphic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енератор событий извлекает данные траектории инструмента из UG и передает их в UG Post как события и переменны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енератор событий выполняет большинство традиционных для постпроцессора функций пользователя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и включаю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интаксический анализ команд и разделение их на глобальные переменны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нение кинематики к точкам goto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генератора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стпроцессорная команд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INDL/RPM,100,CL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енератор событий анализирует команду и создает событи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ыт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spindle_rp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лобальные данны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spindle_speed = 10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spindle_direction=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ы некоторых событий и переменных, загруженных в генератор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tart_of_progr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вызывает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Первое событие в программ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жаемые переменны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da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log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tart_of_pat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вызывает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Первое событие в каждой операци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жаемые переменны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ath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tool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art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римеры некоторых событий и переменных, загруженных в генератор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tool_change (если необходимо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вызывает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После события “start of path”, если инструмент отличается от предидущего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жаемые переменные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tool_number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tool_adjust_register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initial_mo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вызывает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: Первое перемещение после смены инструмента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жаемые переменные: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pos(0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pos(1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pos(2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айл описания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айл описания описывает статические характеристики кадров и доступные адреса для заданного станка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содержит следующие компонент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руктуру кадра для каждой команды (таких как линейное перемещение, круговое перемещение, смена инструмента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ступные адрес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делитель слов и символ конца строк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исания формато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шаблона кадра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LOCK_TEMPLATE Linear {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[01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[$mom_pos(0)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[$mom_pos(1)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[$mom_pos(2)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[$mom_feed_rate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адреса: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DRESS F  {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T Fee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    12000.00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    0 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CE  o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Формат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исание формата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&amp;abcde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+ or _   “+”  указывает выводить знак плюс,  “_” указывает подавить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знак плю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0 or _   “0”  указывает выводить ведущие нули,  “_” указывает не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выводить ведущие нул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{0,1,…,9}    Максимальное кол-во знаков слева от десятичной точк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 . or  _   “.” указывает выводить десятичную точку,  “_” указывает не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выводить десятичную точку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{0,1,…,9}    Максимальное кол-во знаков справа от десятичной точк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0 or _ , “0”  указывает выводить незначащие нули,  “_” указывает не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выводить незначащие нули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Формат языка C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се доступные форматы команды printf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языка 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  Feed       “&amp;__4.2_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азделитель слов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делитель слов определяет строку, которая размещается между словами в кадр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_SEPARATOR &lt;string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ing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юбая строковая переменна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_SEPARATOR " "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5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итуация с постпроцесированием в V1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вариантный ПП - GPM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00 пользователе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орошее решение для стандартных станк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возможностей для настройк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стота использова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изкая по сравнению с конкурентами цен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Конец стро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имвол конца строки опеределяет строку, которая добавляется в конец каждого кадр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D_OF_LINE    &lt;string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ing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Любая строковая переменна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D_OF_LINE    "\012"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Элементы обработчика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сширения Tc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азовый UG 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ногоосевая кинематика станк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Обработчик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ботчик событий - это процедура Tcl, которая устанавливает, как событие траектории инструмента будет обработан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ый обработчик события определяет, что должно выводится при генерации этого события и, если это так, какие кадры будут выводиться в программу ЧПУ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UG расширяет язык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что позволяет пользователям легко создавать кадры вывода, заданные в файле описания. Эти расширения доступны для вызова внутри обработчика событ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ботчик события может также обрабатывать переменные, загруженные генератором события перед выводом кадр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Введение в Tc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зык обработчика событий 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 Pos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 это платформо независимый язык-интерпритатор нового поко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интегрированний язык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аботан John K. Ousterhout во время работы в  UC Berkeley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настоящее время поддерживается компанией Scriptix Corp. (веб сайт www.scriptics.co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вободно распостраняется и доступен на всех платформах UG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фициальный язык UG для написания правил пользовател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 программы Tcl: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 MOM_linear_move  {} {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lobal first_mo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$first_motion != 1} {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force_once X Y 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first_motion 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do_template linea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Базовый Tcl синтаксис: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 коды содержатся в Tcl скрипт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крипт может содержать коды как внутри оператора “procs” так и вне этого оператор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ды снаружы оператора “proc” выполняются при чтении интерпритатором скрипт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ды внутри опретора “proc” выполняются только при вызове процедуры “proc”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ступны локальные и глобальные переменны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пустимы операции с числами, строками, логические операции и операции отноше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Базовый Tcl синтаксис (продолжение):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чень мощная обработка стро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еет управляющие структур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, while, for, foreach, break, continue, switch, eval, expr, sourc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гко расширяемый, то есть, можно очень легко прибавлять новые команды к интерпретатору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еет средства для обработки ошибок, ввода - вывода в файл, порождение процесса и ограниченную отладку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ляет лагко создавать графический интерфейс пользователя с помощью Tk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меры Tcl программ: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fact x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 $x &lt;= 1 } { return 1 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expr $x * [fact [expr $x - 1]]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Ma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 $argc != 2 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"Usage: \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argv0 &lt;inputfile&gt;  \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output file&gt;"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it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infile  [open [lindex argv 0] r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outfile [open [lindex \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gv 1] w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le { [gets $infile \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ber] &gt;= 0 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value [fact $number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$outfile $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 $in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 $out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Now remove input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ec rm [lindex argv 1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Расширения UG Post для Tc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оненты файла описания могут использоваться для ввода расширенных команд Tcl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цель этих команд - создание выходных кадров для станка с ЧПУ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се команды расширения Tcl начинаются с префикса MOM_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 Post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также позволяет пользователям добавлять их собственные команды 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cl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сколько следующих основных UG Post Tcl команд используются для базового вывода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do_templat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считывает и выводит кадр, который основан на кадре шаблона в файле описа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в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mplat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ричины перехода к UG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граничения GP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граниченное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ложность добавления новых технолог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грированный постпроцессо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вместимость с новой архитектурой C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ступ к данным операции и внутреней траектории инструмент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ступ к информации о станк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ступ к информации о инструмент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ступ к файлам UG для создания документац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еход к прямой генерации программы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SF больше не требуетс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output_litera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одит в программу ЧПУ строку, которая  содержит строки и переменные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в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 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"Start of path $mom_path_name"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suppress_addres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следующий раз шаблон кадра расчитывается, так что все заданные в этой команде адреса будут выводится в соответствии с заданной в этой команде модальностью, независимо от его глобального атрибута модальности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вод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ality (once, always, nev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ress nam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uppress_address once N X 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Для чего нужен “wish” и где его взять?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этом разделе описываются шаги для вызова и загрузки “wish” для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События задаваемые пользователем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ляют настраивать меню управления станком и добавлять специальные постпроцессорные коман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ляют пользователю создавать меременные MO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лучают информацию из UG файла для использования в постпроцессор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Базовый файл UG Post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Библиотека стандартных утили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жимы задания подач (IPM, IPR, FRN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жимы шпинделя (SFM, RPM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SERT, PPRI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работчик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вод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работчик ошибок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Новые кинематические схемы 5-осевых станков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овые процедуры для правильного определения позиционирования при многоосевой обработк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полнительные библиотеки, доступные для не-ортогональго расположения осей стан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Deckel-Maho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Инструменты отладки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еются три события, которые были разработаны, для создания средств контроля и отладки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M_before_each_ev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это событ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матически запускается перед каждым событием, созданным генератором событий. Название события будет загружено в переменную mom_debug_event_nam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M_before_each_add_v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это событ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матически запускается пере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загрузкой переменных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вание переменной будет загружено в переменну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ebug_assign_var в формате &lt;var_name&gt; = &lt;value&gt;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M_before_load_add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это событ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матически запускается пере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закгузкой в адрес нового знач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debug.tc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 содержит инструмент отладки, который использует три этих события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ин из инструментов отладки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йл с названием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mom_debug.tc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ьзователь включает этот файл в их обработчик события, чтобы инициировать отладку для того обработчика события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приводит к остановке в каждом событии и перечисляет переменные, которые были загружены для этого событ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создает файл трассировки для всех событий и ассоциативных с ними переменных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причинам эффективности, мы только автоматически вызываем события отладки, если они существуют в загруженном обработчике событ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review.tc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 так же содержит инструмент отладки, который выводит информацию для отладки в три окна меню отладки.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вое окно - это список событий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торое окно - это список всех переменных, доступных в событии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тье окно - это список выходных кодов ЧПУ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Наследование файлов описания и файлов обработчика событий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155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файл описания можно включать другие файлы описания с помощью команды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LUD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&lt;file name&gt; внутри файла описания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файл обработчика событий можно включать другие обработчики событий используя команду Tcl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&lt;file name&gt;"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спользуя команды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LUD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Вы можете создавать похожие постпроцессоры с помощью наследования определений и обработчиков событий от одного или нескольких постпроцессоров и затем переписать новый файл опреде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Позиционирование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 Post - это основа нового решения для постпроцесирова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овые функции разрабатываются только для работы с UG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PM переходит в режим поддержк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т прямого преобразования данных между MDF и UG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733920" y="1905120"/>
            <a:ext cx="1981080" cy="91440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Альтернативные вводы в UG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15429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5740560" y="2743200"/>
            <a:ext cx="2060280" cy="1676160"/>
            <a:chOff x="5740560" y="2743200"/>
            <a:chExt cx="2060280" cy="1676160"/>
          </a:xfrm>
        </p:grpSpPr>
        <p:sp>
          <p:nvSpPr>
            <p:cNvPr id="334" name=""/>
            <p:cNvSpPr/>
            <p:nvPr/>
          </p:nvSpPr>
          <p:spPr>
            <a:xfrm>
              <a:off x="5740560" y="274320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94280" y="285120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743200" y="1447920"/>
            <a:ext cx="1143000" cy="10666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11480" y="1905120"/>
            <a:ext cx="53172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1676520"/>
            <a:ext cx="1387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700"/>
                </a:solidFill>
                <a:latin typeface="Times New Roman"/>
              </a:rPr>
              <a:t>ЧастьU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3124080"/>
            <a:ext cx="1143000" cy="114300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1480" y="365760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4952880"/>
            <a:ext cx="1143000" cy="114300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ен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бы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11480" y="5479920"/>
            <a:ext cx="53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365760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886200" y="4343040"/>
            <a:ext cx="1828800" cy="1143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048120"/>
            <a:ext cx="1523880" cy="1523880"/>
          </a:xfrm>
          <a:prstGeom prst="flowChartDocumen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3200400"/>
            <a:ext cx="1387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700"/>
                </a:solidFill>
                <a:latin typeface="Times New Roman"/>
              </a:rPr>
              <a:t>UG CLS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4800600"/>
            <a:ext cx="1523880" cy="1523880"/>
          </a:xfrm>
          <a:prstGeom prst="flowChartDocumen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724280"/>
            <a:ext cx="18288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700"/>
                </a:solidFill>
                <a:latin typeface="Times New Roman"/>
              </a:rPr>
              <a:t>Форматы других произ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76920" y="1143000"/>
            <a:ext cx="1701720" cy="990720"/>
          </a:xfrm>
          <a:prstGeom prst="rect">
            <a:avLst/>
          </a:prstGeom>
          <a:solidFill>
            <a:srgbClr val="fdd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Обработ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событ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1143000"/>
            <a:ext cx="1676520" cy="990720"/>
          </a:xfrm>
          <a:prstGeom prst="rect">
            <a:avLst/>
          </a:prstGeom>
          <a:solidFill>
            <a:srgbClr val="fdd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опис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4800600"/>
            <a:ext cx="2057400" cy="822240"/>
          </a:xfrm>
          <a:prstGeom prst="rect">
            <a:avLst/>
          </a:prstGeom>
          <a:solidFill>
            <a:srgbClr val="fdd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Выходн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5714640" y="2133360"/>
            <a:ext cx="68580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162560" y="2133720"/>
            <a:ext cx="60948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30920" y="4421160"/>
            <a:ext cx="0" cy="37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90920"/>
            <a:ext cx="257040" cy="533160"/>
          </a:xfrm>
          <a:prstGeom prst="upArrow">
            <a:avLst>
              <a:gd name="adj1" fmla="val 50000"/>
              <a:gd name="adj2" fmla="val 51856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Модули UG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Post Execute - Исполняемый модул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ускается непосредственно из файла U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налог GP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Post Builder - Генератор П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спользуется для создания и редактирования постпроцессора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налог MDF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Post  - генератор ПП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2081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штабируемы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резерный, Токарный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ширенны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фейс пользовател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хож на инструмент художник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афическ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афическое представление кинематики станк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зможно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инематика станк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блоны кадр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дание адрес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ормат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V16 UG постпроцессор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 Post  - генератор П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ьзователи могут создать постпроцессоры с использованием интерактивного инструмент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даботка постпроцессоров U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UG разрабатывает заказные постпроцессоры, основанные на необходимых для заказчика условиях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 Post создавался с использованием базовых инструментальных средств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Базовые проекты в V17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Post -генератор ПП (фаза II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карная обработк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волочная ЭЭ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окарно-фрезерные О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ногосуппортные токарные стоанк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льтернативные вв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Переход с MDFG/GPM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еобразование лицензий (Главные модули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PM на технической поддержк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крайней мере двух-летнее перекрыти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Выгоды от 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Pos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меньшается время постпроцесирования за счет прямой генерации (без промежуточного файла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зможность простой адресации самых сложных станк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меньшается время разработки постпроцессо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латформа для новой технологи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Что такое Система Управления Выводом (MOM) ?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архитекрура/механизм для доступа к данным UG и генерации форматированного вывод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ного приложений UG основанно на MO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Post (Постпроцессор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Shop Docs (Цеховая документация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 Library Mechanism (Механизм библиотек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Что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такое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 UGPost ?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ложение основанное на архитектуре MOM (Система управления выводом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стпроцессор с неограниченными возможностя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ваторский подх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ольшие возможности расшир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онент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Post - исполняемый модул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Post - генератор ПП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d04"/>
                </a:solidFill>
                <a:latin typeface="Arial"/>
              </a:rPr>
              <a:t>Типичная структура и семантика программы ЧПУ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ледовательност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кадров, которые представляют собой последовательность инструкций системе ЧПУ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ждый кадр - это последовательность слов, которые разделены разделителем и заканчивается символом конца строки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ждое слово - это комбинация адреса и значе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дрес определяет, где сохранить значени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начение может быть цифровым или строковым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Training</cp:lastModifiedBy>
  <cp:lastPrinted>1998-06-16T23:31:06Z</cp:lastPrinted>
  <dcterms:modified xsi:type="dcterms:W3CDTF">2001-06-26T10:37:06Z</dcterms:modified>
  <cp:revision>127</cp:revision>
  <dc:subject/>
  <dc:title>No Slide Title</dc:title>
</cp:coreProperties>
</file>