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Генератор ПП - Post Builder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ж Оле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6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мените формат всех координат как показано ниже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зиция X = 1.23 должна выводится как X12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храните Ваш ПП и запустите его для проверки результат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7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мените вызов цикла таким образом, чтобы координаты X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Y повторялись перед вызовом цикла в отдельном кадре с ускоренной подач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00 X 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81 X Y R Z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храните Ваш ПП и запустите его для проверки результат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8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ля каждой из следующих функций замените G код на следующий текст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0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V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0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0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W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03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CW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8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C_DR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83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C_BR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храните Ваш ПП и запустите его для проверки результат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Генератор ПП - Post Builder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 Builder позволяет Вам создавать и редактировать постпроцессоры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 Builder читает и записывает следующих три файл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st.pu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- Это мастер файл “post builder”.  Он содержит информацию, которая не записывается в файлы .tcl и .def.  Он должен раполагатся в том же каталоге, что и .tcl и .def файлы.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НЕ УДАЛЯЙТЕ ЕГО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st.de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- Файл оприсания UG Post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st.tc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-  Файл обработчика событий UG Post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Элементы Post Builder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ются все выходные кадры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ются форматы всех адресо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здается последовательность вывода для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чала программ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чала операци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нца программ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нца операции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мены инструмент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зова цикл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Элементы Post Builder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меет графический, простой в использовании интерфейс для создания постпроцесоро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 Builder позврляет Вам создавать форматы, адреса, кадры и управляющие последовательно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держит начальный набор файлов для настройки постпроцессор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пустите Post Buil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здайте новый П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храните Ваш ПП в каталоге /resource/postprocessor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тредактируйте файл template_post.dat и включите в него новый ПП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ерезагрузите конфигурационный файл или перезапустите UG и проверьте наличии нового ПП в списк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здайте последовательность в начала программы которая содержит следующую информацию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д останова Перемотк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#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70G90G40G17G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храните Ваш ПП и запустите его для проверки результат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3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здайте последовательность для смены инструмент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91G28Z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06 T000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0002 (следующий инструмент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храните Ваш ПП и запустите его для проверки результат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4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мените G код для Cycle/Drill на G7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мените G код для ускоренного перемещения (Rapid Motion) на G01 и добавьте код R в каждый кадр ускоренного перемещения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храните Ваш ПП и запустите его для проверки результат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5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мените последовательность для смены инструмента таким образом, чтобы код Т всегда выводился после кода M06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храните Ваш ПП и запустите его для проверки результат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TSSDEMO</cp:lastModifiedBy>
  <cp:lastPrinted>1998-06-16T23:32:30Z</cp:lastPrinted>
  <dcterms:modified xsi:type="dcterms:W3CDTF">2000-06-18T08:28:34Z</dcterms:modified>
  <cp:revision>105</cp:revision>
  <dc:subject/>
  <dc:title>No Slide Title</dc:title>
</cp:coreProperties>
</file>