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14533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520" y="696600"/>
            <a:ext cx="8001000" cy="24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d8000a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629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UGSol_Sig_stack_white_ppt" descr=""/>
          <p:cNvPicPr/>
          <p:nvPr/>
        </p:nvPicPr>
        <p:blipFill>
          <a:blip r:embed="rId2"/>
          <a:stretch/>
        </p:blipFill>
        <p:spPr>
          <a:xfrm>
            <a:off x="7620120" y="6019920"/>
            <a:ext cx="1371600" cy="68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d04"/>
                </a:solidFill>
                <a:latin typeface="Arial"/>
              </a:rPr>
              <a:t>Основные функции</a:t>
            </a:r>
            <a:br>
              <a:rPr sz="4800"/>
            </a:br>
            <a:r>
              <a:rPr b="1" lang="en-US" sz="4800" spc="-1" strike="noStrike">
                <a:solidFill>
                  <a:srgbClr val="ffcd04"/>
                </a:solidFill>
                <a:latin typeface="Arial"/>
              </a:rPr>
              <a:t>UG Post</a:t>
            </a:r>
            <a:endParaRPr b="1" lang="en-US" sz="48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Чиж Олег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Основные утилиты сравнения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Следующие процедуры procs могут использоватся для сравнения величин.  Например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MS Mincho"/>
              </a:rPr>
              <a:t>: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MS Mincho"/>
              </a:rPr>
              <a:t>  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523880"/>
            <a:ext cx="8077320" cy="50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EQ_is_equa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(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$holedepth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,0.0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MS Mincho"/>
              </a:rPr>
              <a:t>сравнивает переменную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$holedepth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c 0.0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Возвращает Истинно или Ложно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(0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или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EQ_is_equal(s, t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(abs(s-t) &lt;= mom_system_tolerance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Возвращает Истинно если скаляры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MS Mincho"/>
              </a:rPr>
              <a:t>равн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EQ_is_ge(s, t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  (s &gt; t - mom_system_tolerance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Возвращает Истинно если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s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MS Mincho"/>
              </a:rPr>
              <a:t>больше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 или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MS Mincho"/>
              </a:rPr>
              <a:t>равно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MS Mincho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EQ_is_gt(s, t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  (s &gt; t + mom_system_tolerance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Возвращает Истинно если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s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MS Mincho"/>
              </a:rPr>
              <a:t>больше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EQ_is_le(s, t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   (s &lt; t + mom_system_toleranc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Возвращает Истинно если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s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MS Mincho"/>
              </a:rPr>
              <a:t>меньше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или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MS Mincho"/>
              </a:rPr>
              <a:t>равно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MS Mincho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EQ_is_lt(s, t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   (s &lt; t - mom_system_tolerance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Возвращает Истинно если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s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MS Mincho"/>
              </a:rPr>
              <a:t>меньше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EQ_is_zero(s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  (abs(s) &lt; mom_system_toleranc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Возвращает Истинно если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скаляр равен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MS Mincho"/>
              </a:rPr>
              <a:t>нулю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Утилиты векторной математики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Следующие процедуры procs могут использоватся для вычислений векторной матаматик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92800" y="1828800"/>
            <a:ext cx="7899840" cy="42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VEC3_add(u,v,w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w = u + v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Сложение вектор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VEC3_cross(u,v,w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w = ( u X v )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Векторное произвед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VEC3_dot(u,v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(u dot v)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Скалярное произвед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VEC3_init(x,y,z,w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w = (x, y, z)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Инициализация вектор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VEC3_is_equal(u,v,tol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(||(u-v)|| &lt; tol)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Сравнение вектор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VEC3_is_zero(u,tol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(|| u || &lt; tol)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Сравнение вектора с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VEC3_mag(u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( || u || )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Модуль вектор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VEC3_negate(u,w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w = (-u)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Обратный векто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VEC3_scale(s,u,w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w = (s*u)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Масштабирование вектор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VEC3_sub(u,v,w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w = u - v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Вычитание из вектор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VEC3_unitize(u,tol,len,w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*len = || u ||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Унификация вектора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w = u / *len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001000" cy="52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Утилиты работы с матрцами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Следующие процедуры procs могут использоватся для вычислений матричных функций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1676520"/>
            <a:ext cx="8991720" cy="39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MS Mincho"/>
              </a:rPr>
              <a:t>MTX3_init_x_y_z (u, v, w, r)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 r = (u, v, w)            Инициализация матрицы по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векторам x, y и 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MS Mincho"/>
              </a:rPr>
              <a:t>MTX3_is_equal(m,n,a)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     (m == n)        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Определяет равенство матриц в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пределах допуска 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MS Mincho"/>
              </a:rPr>
              <a:t>MTX3_multiply(m, n, r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)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r = ( m X n )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Умножение матри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MS Mincho"/>
              </a:rPr>
              <a:t>MTX3_transpose(m, r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)            r = trns(m)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Транспонирование матриц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MS Mincho"/>
              </a:rPr>
              <a:t>MTX3_scale(s,r)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r = (s*(u))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Масштабирование матрицы по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MS Mincho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MS Mincho"/>
              </a:rPr>
              <a:t>MTX3_sub(m,n,r)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r = (m - n)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Вычитание матрц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MS Mincho"/>
              </a:rPr>
              <a:t>MTX3_add(m,n,r)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r = (m + n)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Добавление матриц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MS Mincho"/>
              </a:rPr>
              <a:t>MTX3_vec_multiply(u, m, w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)   w = (u X m)          Умножение матрицы и векто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MS Mincho"/>
              </a:rPr>
              <a:t>MTX3_x(m, w)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w = (1st column)   Вектор первой колонки матриц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MS Mincho"/>
              </a:rPr>
              <a:t>MTX3_y(m, w)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w = (2nd column) Вектор второй колонки матриц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MS Mincho"/>
              </a:rPr>
              <a:t>MTX3_z(m, w)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w = (3rd column) Вектор третьей колонки матриц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Основные утилиты UG Post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Утилита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isset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определяет, была или определена переменная :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имер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f {[isset mom_kin_machine_type] == "n"} {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t machine_type MILL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имер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f {[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ss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y1] == “y”} {puts “variable y1 exists”}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4760" y="1266840"/>
            <a:ext cx="667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Следующая процедура proc используется для проверк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наличия переменно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Основные утилиты UG Post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Следующая процедура proc используется для провекки инициализации переменны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х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768320"/>
            <a:ext cx="87631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MS Mincho"/>
              </a:rPr>
              <a:t>Утилита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MS Mincho"/>
              </a:rPr>
              <a:t>hiset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MS Mincho"/>
              </a:rPr>
              <a:t> возвращает ТRUE(1) если переменная v1 инициализированна, в противном случае - FALSE(0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Пример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set xx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[hiset xx] returns xx as TRUE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[hiset yy] returns yy as FALSE(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Пример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if {[hiset yy]} {puts $list_file "yy"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Основные утилиты UG Post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Следующая процедура proc используется для форматирования и возврата переменной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2286000"/>
            <a:ext cx="89154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MS Mincho"/>
              </a:rPr>
              <a:t>Утилита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MS Mincho"/>
              </a:rPr>
              <a:t>fmt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MS Mincho"/>
              </a:rPr>
              <a:t> возвращает переменную v1 после форматирования заданным форматом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Пример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</a:t>
            </a:r>
            <a:r>
              <a:rPr b="1" lang="en-US" sz="2400" spc="-1" strike="noStrike">
                <a:solidFill>
                  <a:srgbClr val="e7ff03"/>
                </a:solidFill>
                <a:latin typeface="Times New Roman"/>
                <a:ea typeface="MS Mincho"/>
              </a:rPr>
              <a:t>set x [fmt $y “&amp;__3.3_"]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устанавливает и возвращает х после форматирования y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в формат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 “&amp;__3.3_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Основные утилиты UG Post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MS Mincho"/>
              </a:rPr>
              <a:t>Следующие константы заданы в файле UGPost_Base.tcl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2057400"/>
            <a:ext cx="891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set PI [expr 2.0 * asin(1.0)]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значение P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set RAD2DEG [expr 90.0 / asin(1.0)]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MS Mincho"/>
              </a:rPr>
              <a:t>преобразование радиан в градус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set DEG2RAD [expr asin(1.0) / 90.0]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MS Mincho"/>
              </a:rPr>
              <a:t>преобразование градусов в радиан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26T22:37:00Z</dcterms:created>
  <dc:creator>Richard W. Schenk</dc:creator>
  <dc:description/>
  <dc:language>en-US</dc:language>
  <cp:lastModifiedBy>TSSDEMO</cp:lastModifiedBy>
  <cp:lastPrinted>1998-06-16T23:32:30Z</cp:lastPrinted>
  <dcterms:modified xsi:type="dcterms:W3CDTF">2000-06-18T08:07:16Z</dcterms:modified>
  <cp:revision>107</cp:revision>
  <dc:subject/>
  <dc:title>No Slide Title</dc:title>
</cp:coreProperties>
</file>