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8ABCBD-B642-49E9-9F2F-5780C86F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D1C538-4A1D-4DAB-9803-267FC9A2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049F49B-D564-45E9-A6B4-A53B0202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A3899C-C906-4661-A587-02B4B1604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9F4A32-8063-4CEC-A883-E7AADC18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AC0BE9-D161-4A75-A96E-95B073EE1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1921FE-5122-4AF4-916C-7512BA96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3B2F29-46EE-43E5-BC57-488E2C7DA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F086B2-3664-4AB4-8087-602A4D16E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402622-CE2D-4E74-82A2-FB7258E8E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FB6AE8-E417-405E-85B9-B3D880A97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E3BE60-5E6A-4319-846F-2D69F091E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Кинематика UG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йте переменные кинематики для вывода дуг окружностей ограниченных квадрантами и только в плоскости XY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machine_type  5_axis_dual_he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4th_axis_plane  Y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4th_axis_min_limit -2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4th_axis_max_limit 20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5th_axis_plane  X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5th_axis_min_limit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5th_axis_max_limit 36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pivot_gauge_offset 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output_mode quadra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valid_plane x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еременные кинемати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еременные кинематик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задают специфическую для различных станков информацию, которая используется обработчиком событи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еременные кинематик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определяют как обработчик событий превращает координаты x,y,z,i,j,k траектории в координаты ста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еременные кинематик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ак же используются для задания тиа станка: токарный, фрезерный или ЭЭ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ые типы станков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kin_machine_typ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h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_axis_mi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_axis_he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_axis_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_axis_dual_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_axis_dual_he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_axis_head_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_axis_wed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_axis_wed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Токарны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715160" cy="2057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Если тип станка установлен в токарный, обработчик событий превращает координаты траектории в токарные координаты следующим образом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85040" y="4343400"/>
            <a:ext cx="6086520" cy="520560"/>
            <a:chOff x="1985040" y="4343400"/>
            <a:chExt cx="6086520" cy="520560"/>
          </a:xfrm>
        </p:grpSpPr>
        <p:sp>
          <p:nvSpPr>
            <p:cNvPr id="56" name=""/>
            <p:cNvSpPr/>
            <p:nvPr/>
          </p:nvSpPr>
          <p:spPr>
            <a:xfrm>
              <a:off x="1985040" y="4343400"/>
              <a:ext cx="27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Траектория U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08040" y="4343400"/>
              <a:ext cx="29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Кадр программ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10400" y="4876920"/>
            <a:ext cx="48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x,y,z     --&gt;     x,0,z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резерны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867440" cy="2133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Если тип станка установлен в фрезерный, обработчик событий превращает координаты x,y,z,i,j,k траектории в x, y, z, 4-я ось вращения &amp; 5 -я ось вращ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08720" y="3962520"/>
            <a:ext cx="6086160" cy="520560"/>
            <a:chOff x="1908720" y="3962520"/>
            <a:chExt cx="6086160" cy="520560"/>
          </a:xfrm>
        </p:grpSpPr>
        <p:sp>
          <p:nvSpPr>
            <p:cNvPr id="62" name=""/>
            <p:cNvSpPr/>
            <p:nvPr/>
          </p:nvSpPr>
          <p:spPr>
            <a:xfrm>
              <a:off x="1908720" y="3962520"/>
              <a:ext cx="27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Траектория U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1360" y="3962520"/>
              <a:ext cx="29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Кадр программ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55360" y="4419720"/>
            <a:ext cx="57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x,y,z,i,j,k --&gt; x,y,z,a,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резерны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15520" cy="19814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ип станка определяе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осей.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ждая поворотная ось задается следующим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7000" y="3657600"/>
            <a:ext cx="51944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лоскость вра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граничения переме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правление пози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улевая точ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кружност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m_kin_arc_output_mo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 переменная кинематики определяет данные и кол-во кадров которые необходимы для генерации дуг окружностей в прогамме ЧПУ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LL_CIRC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руговое перемещение генерируется в приращении 360 градус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DRA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руговое перемещение генерируется для каждого квадранта отдельн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NEA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 установка указывает обработчику событий генерировать окгужность с помощью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инейных сегмент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кружност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m_kin_arc_valid_plan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та переменная указывает обработчику событий в каких плоскостях возможна генерация событий circle_move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Y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уги выводятся в трех принципиальных плоскостях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уги выводятся в плоскости XY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уги выводятся в плоскости YZ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Z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уги выводятся в плоскости ZX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йте переменные кинематики для создания 5-осевого станка со следующими элементами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th ось -- Поворотная головка A в плоскости YZ, ограничения +/- 20 градус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th ось -- Поворотная головка C в XY плоскости, ограничения 0-360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чка поворота - 10 дюйм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54:26Z</cp:lastPrinted>
  <dcterms:modified xsi:type="dcterms:W3CDTF">2000-06-18T10:22:11Z</dcterms:modified>
  <cp:revision>90</cp:revision>
  <dc:subject/>
  <dc:title>No Slide Title</dc:title>
</cp:coreProperties>
</file>