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Инсталяция WISH для UG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Где взять программу для Windows NT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устите Ваш веб браузер (Internet Explorer, Netscape, .et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йдите на страницу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ww.scriptics.com/software/tcltk/downloadnow83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метку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ownlo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метку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cl830.ex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каталог для записи файл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е загрузки выйдите из браузер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ройте Explorer, перейдите в каталог в который Вы записали загруженый файл и дважды нажмите на значок этого файл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алее следуйте инструкциям по инсталя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опируйте файл wish83.exe в каталог $UGII_BASE_DIR\mach\auxili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именуйте wish83.exe в ugwish.ex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39116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Где взять программу для 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NIX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устите Ваш веб браузер (Internet Explorer, Netscape, .et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йдите на страницу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ww.scriptics.com/software/tcltk/downloadnow83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метку с названием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NIX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метку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k sources (tk8.3.0.tar.Z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каталог для записи файл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е загрузки выйдите из браузер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йдите в каталог в который Вы записали загруженый файл и “uncompress” и “untar” загруженный файл в каталог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/usr/local/b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алее следуйте инструкциям в файле READ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каталог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$UGII_BASE_DIR/mach/auxili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создайте линк для вызова программы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gwish на исполн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n -s  /usr/local/bin/tk8.3/wish ugwis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32:30Z</cp:lastPrinted>
  <dcterms:modified xsi:type="dcterms:W3CDTF">2000-06-18T07:35:57Z</dcterms:modified>
  <cp:revision>94</cp:revision>
  <dc:subject/>
  <dc:title>No Slide Title</dc:title>
</cp:coreProperties>
</file>