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rcRect l="0" t="0" r="0" b="11314"/>
          <a:stretch/>
        </p:blipFill>
        <p:spPr>
          <a:xfrm>
            <a:off x="7620120" y="6095880"/>
            <a:ext cx="13716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UGPOST Tcl Интерпритатор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иж Оле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d04"/>
                </a:solidFill>
                <a:latin typeface="Arial"/>
              </a:rPr>
              <a:t>Tcl интерпритатор</a:t>
            </a:r>
            <a:endParaRPr b="1" lang="en-US" sz="40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беспечивает подключение к Tcl интерпритатору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беспечивает доступ к данным и функциям файла части U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беспечивает возможность создания других Tcl приложений для UGPOS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зволяет пользователям создавать специальные Tcl приложен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меется точка входа в библиотеках UFUN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ребует лицензии на UFUNC и C компилято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d04"/>
                </a:solidFill>
                <a:latin typeface="Arial"/>
              </a:rPr>
              <a:t>Tcl интерпритатор (продолж.)</a:t>
            </a:r>
            <a:endParaRPr b="1" lang="en-US" sz="40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Функции пользователя включены в файл </a:t>
            </a:r>
            <a:r>
              <a:rPr b="1" i="1" lang="en-US" sz="2900" spc="-1" strike="noStrike">
                <a:solidFill>
                  <a:srgbClr val="ffff00"/>
                </a:solidFill>
                <a:latin typeface="Times New Roman"/>
              </a:rPr>
              <a:t>uf_mom.h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ребуется создание динамически загружаемой библиотеки (.dll) для каждой аппаратной платформ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льзователь может запрашивать и устанавливать переменные через интерпритато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льзователь получает доступ к точкам входа CAM которые связаны с Tcl интерпритаторо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d04"/>
                </a:solidFill>
                <a:latin typeface="Arial"/>
              </a:rPr>
              <a:t>Возможности использования Tcl интерпритатора</a:t>
            </a:r>
            <a:endParaRPr b="1" lang="en-US" sz="40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звлечение атрибутов ч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звлечение атрибутов элемент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звлечение значений Массы/Объем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зов имен файлов используемых для прижимов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зов данных сплайнов, в-кривых, кривых и т.д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зов данных о модели для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втоматического выбора шаблонов обработк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втоматического выбора режущего инструмент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d04"/>
                </a:solidFill>
                <a:latin typeface="Arial"/>
              </a:rPr>
              <a:t>Tcl интерпритатор</a:t>
            </a:r>
            <a:endParaRPr b="1" lang="en-US" sz="40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р кодов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4400" y="1600200"/>
            <a:ext cx="8128440" cy="45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*----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xtern int example_entry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*----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ha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*para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le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t      *sta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F_MOM_id_t   mo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* Get the MOM id from the Ufunc param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F_MOM_ask_mom( param, &amp;mom 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* Now extend the interpreter with a new function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F_MOM_extend_xlator( mom, “UGPOST_open_part_file”, openPartFile 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F_MOM_extend_xlator( mom, “UGPOST_add”, myAdd 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bj = mom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turn (0 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01:45:23Z</dcterms:created>
  <dc:creator>Mark Rief</dc:creator>
  <dc:description/>
  <dc:language>en-US</dc:language>
  <cp:lastModifiedBy>TSSDEMO</cp:lastModifiedBy>
  <cp:lastPrinted>2000-01-27T15:27:42Z</cp:lastPrinted>
  <dcterms:modified xsi:type="dcterms:W3CDTF">2000-06-18T10:01:21Z</dcterms:modified>
  <cp:revision>88</cp:revision>
  <dc:subject/>
  <dc:title>CAM Wizards - Why?</dc:title>
</cp:coreProperties>
</file>