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Запуск UG Post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Как настраивать Ваши ПП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мените файл .ugii_env как показано ниже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GII_CAM_POST_DIR=${UGII_CAM_CUSTOM_DIR}postprocessor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копируйте фай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mplate_post.dat и другие ресурсные файлы в новую директорию постпроцессор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тредактируйте Ваш новый template_post.dat файл для конфигурации используемых постпроцессоров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пользуя Help -&gt; Log file определите где инсталирован UG  и проверьте, какие ресурсные каталоги используются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копируйте структуру директории ресурсов из каталога “mach” в вашу домашнюю директорию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йте себе доступ для записи вашему каталогу ресурса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34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кажите СAM использовать Ваши ресурсные файлы (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дним из возможных способ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копируйте UG файл настроек из главной директории в вашу домашнюю директорию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змените строку, которая задает каталог ресурсов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 NT, это файл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ugii_env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349"/>
              </a:spcBef>
              <a:buClr>
                <a:srgbClr val="ffcd04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UGII_CAM_RESOURCE_DIR=${HOME}/resource/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 NT, это файл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ugii_env.da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349"/>
              </a:spcBef>
              <a:buClr>
                <a:srgbClr val="ffcd04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UGII_CAM_RESOURCE_DIR=d:\users\resource\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е забудьте заменить / ил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ерезапустите Unigraphic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пользуя Help -&gt; Log file проверьте какие каталоги ресурсов теперь используются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здание постпроцессор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Вашей директории “resource/postprocessor” скопируйте mill3ax.def в mypost.def и mill3ax.tcl в mypost.tc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тредактируйте файл template_post.dat и добавьте в него новый ПП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верьте, что UG распознает ваш ПП для последующего использования, и см. Ваш ПП в списк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3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ключите инструмент обзор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далите символ коментария “#” в начале двух следующих строк в Вашем tcl файл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source [MOM_ask_env_var UGII_CAM_DEBUG_DIR]mom_review.t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MOM_set_debug_mode 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p –R /cyp/netug04/osf/ugs16022/mach/resource 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mod –r 777 resourc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Настройки UG Post окружения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пустите UG v1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ткройте часть mypart.pr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йдите в обработку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берите операцию для вывода в навигаторе операци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берите значок UG/Po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берите постпроцессор из спис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жмите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pp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Конфигураци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иректории расположения .dat файл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dat файл по умолчанию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имена отображаемых файл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бор при инициализаци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зменения в настройках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1981080" cy="337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867280" y="685800"/>
            <a:ext cx="1752840" cy="1219320"/>
          </a:xfrm>
          <a:prstGeom prst="ellipse">
            <a:avLst/>
          </a:prstGeom>
          <a:noFill/>
          <a:ln w="57240">
            <a:solidFill>
              <a:srgbClr val="d8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3840120" cy="269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0" y="2971800"/>
            <a:ext cx="43131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Что находится в конфигурационном файле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бор шаблоно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Шаблоны документаци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стпроцессор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бытия задаваемые пользователе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орматы C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ормат файла листинг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иблиотек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астер-процесс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ример файла конфигурации “mill_contour.dat”</a:t>
            </a:r>
            <a:endParaRPr b="1" lang="en-US" sz="2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5840"/>
            <a:ext cx="9144000" cy="590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LATE_OPERATION, ${UGII_CAM_TEMPLATE_SET_DIR}mill_contour.o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LATE_DOCUMENTATION, ${UGII_CAM_SHOP_DOC_DIR}shop_doc.d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LATE_POST, ${UGII_CAM_POST_DIR}template_post.d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ER_DEFINED_EVENTS, ${UGII_CAM_USER_DEF_EVENT_DIR}ude.cdl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USER_DEF_EVENT_DIR}ude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LATE_CLSF, ${UGII_CAM_TOOL_PATH_DIR}template_clsf.d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STING_FORMAT, ${UGII_CAM_TOOL_PATH_DIR}clsf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TOOL_PATH_DIR}clsf_listing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TOOL, ${UGII_CAM_LIBRARY_TOOL_ASCII_DIR}dbc_tool_ascii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TOOL_ASCII_DIR}dbc_tool_ascii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MACHINE, ${UGII_CAM_LIBRARY_MACHINE_ASCII_DIR}dbc_machine_ascii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MACHINE_ASCII_DIR}dbc_machine_ascii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FEEDS_SPEEDS, ${UGII_CAM_LIBRARY_FEEDS_SPEEDS_ASCII_DIR}feeds_speeds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FEEDS_SPEEDS_ASCII_DIR}feeds_speeds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PART_MATERIAL, ${UGII_CAM_LIBRARY_FEEDS_SPEEDS_ASCII_DIR}part_materials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FEEDS_SPEEDS_ASCII_DIR}part_materials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TOOL_MATERIAL, ${UGII_CAM_LIBRARY_FEEDS_SPEEDS_ASCII_DIR}tool_materials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FEEDS_SPEEDS_ASCII_DIR}tool_materials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CUT_METHOD, ${UGII_CAM_LIBRARY_FEEDS_SPEEDS_ASCII_DIR}cut_methods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FEEDS_SPEEDS_ASCII_DIR}cut_methods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ZARD, ${UGII_CAM_WIZARD_DIR}wizard_mill_contour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579132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труктура дитекторий модуля обработ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4479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се ресурсные файлы находятся в одном мест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талог “custom” может использоватся для собственных постпроцессоров, конфигурационных файлов, цеховой документации и т.д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истемные переменные используются для задания каталогов для поиска файлов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295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ормат MOM dat файлов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s, CLSF, ShopDoc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ждая строка содержит 3 пол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784760"/>
            <a:ext cx="8763120" cy="192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ll 3 axis fast, mill3ax_fast.tcl, mill3ax_fast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ll 3 axis review, mill3ax_review.tcl, mill3ax_fast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nuc NURBS, fanuc_nurbs.tcl, fanuc_nurbs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kron NURBS, mikron_nurbs.tcl, mikron_nurbs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ders Poly, roders_poly.tcl, roders_poly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emens Poly, siemens_poly.tcl, siemens_poly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477120" y="533520"/>
            <a:ext cx="2009520" cy="280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3657600"/>
            <a:ext cx="2286000" cy="457200"/>
          </a:xfrm>
          <a:prstGeom prst="wedgeEllipseCallout">
            <a:avLst>
              <a:gd name="adj1" fmla="val 1805"/>
              <a:gd name="adj2" fmla="val 212847"/>
            </a:avLst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мя в мен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657600"/>
            <a:ext cx="2590560" cy="457200"/>
          </a:xfrm>
          <a:prstGeom prst="wedgeEllipseCallout">
            <a:avLst>
              <a:gd name="adj1" fmla="val 2574"/>
              <a:gd name="adj2" fmla="val 223611"/>
            </a:avLst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ботчи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657600"/>
            <a:ext cx="2438280" cy="457200"/>
          </a:xfrm>
          <a:prstGeom prst="wedgeEllipseCallout">
            <a:avLst>
              <a:gd name="adj1" fmla="val 2736"/>
              <a:gd name="adj2" fmla="val 210763"/>
            </a:avLst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Файл опи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остпроцессоры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3580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MPLATE_POST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{UGII_CAM_POST_DIR}template_post.d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24480" y="609480"/>
            <a:ext cx="1981440" cy="2530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280" y="4614840"/>
            <a:ext cx="8839440" cy="2014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L 3_AXI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{UGII_CAM_POST_DIR}mill3ax.tcl,${UGII_CAM_POST_DIR}mill3ax.d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L 4_AXI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{UGII_CAM_POST_DIR}m4bh.tcl,${UGII_CAM_POST_DIR}m4bh.d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L 5_AXI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{UGII_CAM_POST_DIR}m5abtt.tcl,${UGII_CAM_POST_DIR}m5abtt.d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066680"/>
            <a:ext cx="5715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исок П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ложение M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мена универсального станка на станок из библиоте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Где задаются постпроцессоры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3352680"/>
            <a:ext cx="8152920" cy="1143000"/>
            <a:chOff x="228600" y="3352680"/>
            <a:chExt cx="8152920" cy="1143000"/>
          </a:xfrm>
        </p:grpSpPr>
        <p:sp>
          <p:nvSpPr>
            <p:cNvPr id="71" name=""/>
            <p:cNvSpPr/>
            <p:nvPr/>
          </p:nvSpPr>
          <p:spPr>
            <a:xfrm>
              <a:off x="228600" y="3352680"/>
              <a:ext cx="1904760" cy="1143000"/>
            </a:xfrm>
            <a:prstGeom prst="flowChartDocumen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Файл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конфигура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1960" y="3352680"/>
              <a:ext cx="601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TEMPLATE_POST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${UGII_CAM_POST_DIR}template_post.d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28600" y="1676520"/>
            <a:ext cx="8914680" cy="1218960"/>
            <a:chOff x="228600" y="1676520"/>
            <a:chExt cx="8914680" cy="1218960"/>
          </a:xfrm>
        </p:grpSpPr>
        <p:sp>
          <p:nvSpPr>
            <p:cNvPr id="74" name=""/>
            <p:cNvSpPr/>
            <p:nvPr/>
          </p:nvSpPr>
          <p:spPr>
            <a:xfrm>
              <a:off x="228600" y="1676520"/>
              <a:ext cx="1937880" cy="1218960"/>
            </a:xfrm>
            <a:prstGeom prst="flowChartDocumen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gii_en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99040" y="1828800"/>
              <a:ext cx="674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GII_CAM_POST_DIR=${UGII_CAM_RESOURCE_DIR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ostprocesso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TSSDEMO</cp:lastModifiedBy>
  <cp:lastPrinted>1998-06-16T23:53:18Z</cp:lastPrinted>
  <dcterms:modified xsi:type="dcterms:W3CDTF">2000-06-17T17:07:47Z</dcterms:modified>
  <cp:revision>99</cp:revision>
  <dc:subject/>
  <dc:title>No Slide Title</dc:title>
</cp:coreProperties>
</file>