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6D24FE-E2B4-41FD-A287-9959FD42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6CA5BD-80E6-4ACB-AEAB-29673020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A58114-3E20-4BF9-B6EF-E16444631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3FD5C1-4CA7-4E8A-9D3E-1D10040B5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5B2385-542D-4781-A159-67EDB72C0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F0C498-0441-4299-9A7C-F3579B83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63C043-3BE8-44B4-9C5B-9E55CE339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246815-FAAD-40CA-915B-82BEB5F3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97A195-3884-4E21-BE56-0C4C9BC3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4BD69B-41DC-4823-AE5E-413E5DCD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6FAA45-AE2F-400A-9AD2-2F92EDA6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900289-60B8-42D9-94E0-3C1EA6F8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4A0D79-297A-4C0C-9CDC-B3ADC661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72CC41-18F2-4401-877A-341CC5A4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168669-9C0D-4106-83F3-70A979A8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F0065C-4CFA-44CD-B4AB-0A75A554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65252C-8D52-4DE6-A41D-7DB1AE38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40A68E-8297-4E31-9071-31347F53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18974D-E203-4719-9FB2-078E6DDC2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C250C5-A3D0-4B22-B315-5202DCA15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82FB17-E546-438C-8587-D8AAE9AEB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E7693A-8A94-42B6-A3D4-5F02AD0B7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C144CF-3B83-4C12-B9EE-11611746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2CBAFF-1075-472F-B04B-B80B90B4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2BFBF5-5343-4345-AC28-F4D7FF4A8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E66061-EA6D-4FF5-BEF7-F5D899A9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86B0C5-0D95-43EC-8AE2-36A1D9359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айл обработчика событий UG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цедуры обработ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start_of_path  {} 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 mom_operation_typ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  mom_path_nam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Тип операции: $mom_operation_type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Имя операции: $mom_path_name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uppres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uppress &lt;Always|Once|Off&gt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dress_1,...,address_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команда подавляет вывод адресов в любых кадрах шаблонов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авлять всегд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авить только в следующем кадр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ключить подавлени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uppress Once 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подавить в следующем кадре адрес 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цедуры обработ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start_of_program  {} 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uppress Once 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%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цедуры обработ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linear_move  {} 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forc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force &lt;Always|Once|Off&gt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dress_1,...,address_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званый следующий раз кадр шаблона будет содержать все адреса со значениями,  которые заданы в этой функции в качестве аргументов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одить всегд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одить только в следующем кадр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 выводит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force Once X Y Z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В следующем кадре вывести адреса X Y Z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цедуры обработ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initial_move  {} 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force Once X Y Z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initial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et_seq_on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et_seq_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ляет выводить номер кадра если SEQUENCE (последовательность) задана в файле описа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et_seq_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et_seq_off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et_seq_o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 выводить номер кадр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et_seq_of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 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ите процедуру “start_of_program” в файле my_post.tcl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тановите строку без адреса N но с %471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тановите заголовок без адреса 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ate (дата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logname (имя пользователя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part_name (имя файла части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тановите вывод строки “G40 G80 G17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мените процедуру “start_of_path” в файле my_post.tcl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operation_type (тип операции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ath_name (имя траектории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name (имя инструмента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type (тип инструмента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number (номер инструмента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рхитекрура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 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36720"/>
            <a:ext cx="1555920" cy="32702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53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Обработчик событ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523880"/>
            <a:ext cx="297180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Файл опис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5486400"/>
            <a:ext cx="1828800" cy="82224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Выходн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60840" y="3719520"/>
            <a:ext cx="1851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59040" y="4087440"/>
            <a:ext cx="1851120" cy="11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60840" y="4862520"/>
            <a:ext cx="1851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60840" y="4481640"/>
            <a:ext cx="1851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13400" y="3352680"/>
            <a:ext cx="147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Имя собы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3400" y="3719520"/>
            <a:ext cx="132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перем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83400" y="4086360"/>
            <a:ext cx="132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перем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83400" y="4452840"/>
            <a:ext cx="132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перем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4320" y="3719520"/>
            <a:ext cx="530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06960" y="2744280"/>
            <a:ext cx="758880" cy="682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089840" y="2746440"/>
            <a:ext cx="301680" cy="682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02320" y="5108400"/>
            <a:ext cx="0" cy="37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2160" y="1406520"/>
            <a:ext cx="6489720" cy="1460520"/>
          </a:xfrm>
          <a:prstGeom prst="rect">
            <a:avLst/>
          </a:prstGeom>
          <a:noFill/>
          <a:ln w="25560">
            <a:solidFill>
              <a:srgbClr val="00dfc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99072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Задается пользовате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мените вывод для события “cycle_drill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01 X Y E 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чальная точка в цикле сверлени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лубина отверстия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езопасное расстояние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мените процедуру ускоренного перемещ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место G0 выводить G1 с 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 X Y Z 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мените процедуру ускоренного перемещ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всех ускоренных перемещений выводить F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0 X Y Z F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####### TASK  : $mom_part_name ############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 Created By   : $mom_logname)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 Creation Date: $mom_date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###########################################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suppress always 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%4711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suppress off    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G70 G90"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”G80 G40 G17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----------------------------------------------------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Operation Name: $mom_path_name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Operation Type: $mom_operation_type)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Tool Name: $mom_tool_name)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Tool Type: $mom_tool_type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Tool Number: $mom_tool_number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----------------------------------------------------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cycle_drill {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cycle_drill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[$mom_cycle_feed_to_pos(0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[$mom_cycle_feed_to_pos(1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[$mom_cycle_feed_to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[$mom_cycle_rapid_to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[$mom_feed_rat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 mom_sys_cycle_drill_code 11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 create address 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E 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X    9999.9999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N    -9999.9999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CE  off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 mom_sys_rapid_code 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xy {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[$mom_sys_output_code($mom_output_mode)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z {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[$mom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[$mom_tool_adjust_register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ешение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 mom_sys_rapid_code 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xy {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[$mom_sys_output_code($mom_output_mode)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0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z {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[$mom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[$mom_tool_adjust_register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0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обработчика событ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Линейное перемещение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OTO/ x, y, z, i, j, 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Генератор событий создает для события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linear_mov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следующие переменные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os --  позиция станка x,y,z,a,b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rev_pos -- предидущая позиция станка x,y,z,a,b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goto_pos -- координаты goto в СКС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goto_tool_axis -- ось инструмента в goto в СКС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rev_goto_pos -- предидущая координата goto в СКС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rev_goto_tool_axis -- предидущая ось инструмента в goto в СКС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feed_rate_per_min -- подача в дюймах/мм в минуту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feed_rate_per_rev -- подача в дюймах/мм на оборо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Примеры типовых событий и переменные загружаемые в обработчик событий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linear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гда вызывается: Для каждого линейного перемещения в траектории инструмента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жаемые переменные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0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1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2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circular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гда вызывается : Для каждого кругового перемещения в траектории инструмента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жаемые переменные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0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arc_center(0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1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arc_center(1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2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arc_center(2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do_templat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do_templat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emplate_nam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читывает и выводит кадр, который основан на кадре шаблона в файле описа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 X10 Y20 Z5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Базовый файл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азовый файл UG Post содержит базовые процедуры общие для всех постпроцессоров.  Этот файл должен быть исходным для всех обработчиков событи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енератор событий обеспечивает генерацию общих G и M кодов для многих событий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00 Останов, M01 Опциональный останов, M02 Конец, M03 Вкл. Шпинделя ПЧС, и т.д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00 ускоренное, G01 линейное, G02 круговое ПЧС и т.д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Базовый файл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se file contains the default processing for all events.  This includes PPRINT, INSERT and other basic func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se file also includes the procedure for outputting commentary information (eyewash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se file is supplied by UG.  Any procedure in the base file may be overwritten by the user, if desire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цедуры обработ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linear_move  {} 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output_litera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output_literal “string”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водит в программу ЧПУ строку, которая содержит строки и переменны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Имя операции: $mom_path_name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мя операции: P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SSDEMO</cp:lastModifiedBy>
  <cp:lastPrinted>1999-06-18T23:35:58Z</cp:lastPrinted>
  <dcterms:modified xsi:type="dcterms:W3CDTF">2000-06-17T14:35:51Z</dcterms:modified>
  <cp:revision>89</cp:revision>
  <dc:subject/>
  <dc:title>No Slide Title</dc:title>
</cp:coreProperties>
</file>