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Starting UG 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How To Customize Your Post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dit the .ugii_env file as follow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GII_CAM_POST_DIR=${UGII_CAM_CUSTOM_DIR}postprocessor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py the template_post.dat file and any of the generic posts you want to keep to your new post directory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dit your new template_post.dat file to reflect the posts you want to u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 Help -&gt; Log file to see where UG in installed, and verify what resource directory you are using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y the resource directory structure from mach to your home direct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ive yourself write access to your resource file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ll CAM to use your resource files (one way to do it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y the UG environment file from the install to your ho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ange the line that defines the resource director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 Unix, the file is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ugii_env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ffcd04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UGII_CAM_RESOURCE_DIR=${HOME}/resource/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 NT, the file is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ugii_env.da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49"/>
              </a:spcBef>
              <a:buClr>
                <a:srgbClr val="ffcd04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UGII_CAM_RESOURCE_DIR=d:\users\resource\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n’t forget the trailing / or \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tart Unigraphic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 Help -&gt; Log file to verify that your resource directory is being used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eate a postprocess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your resource/postprocessor directory copy mill3ax.def to mypost.def and mill3ax.tcl to mypost.tc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dit template_post.dat and add your pos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ify that UG knows about your post by postprocessing and see your post on the lis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rn on the review tool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move the # from the following two lines in your tcl fil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source [MOM_ask_env_var UGII_CAM_DEBUG_DIR]mom_review.t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 MOM_set_debug_mode 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p –R /cyp/netug04/osf/ugs16022/mach/resource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mod –r 777 resour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Workshop Setup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ugmenu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select v1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manufacturin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part mypart.pr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ct the operations to postprocess with the operation navigat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ct a post from the lis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ct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pp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onfiguration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tory of .dat fi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ault .dat fi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file names are display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ct when initializ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nge in Preferen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1981080" cy="33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685800"/>
            <a:ext cx="1752840" cy="1219320"/>
          </a:xfrm>
          <a:prstGeom prst="ellipse">
            <a:avLst/>
          </a:prstGeom>
          <a:noFill/>
          <a:ln w="57240">
            <a:solidFill>
              <a:srgbClr val="d80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3840120" cy="269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2971800"/>
            <a:ext cx="4313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What’s in the Configuration File?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emplate S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ocument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empla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stprocesso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r defined ev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S forma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sting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bra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Assistant (formerly Wizard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ample Configuration File mill_contour.dat</a:t>
            </a:r>
            <a:endParaRPr b="1" lang="en-US" sz="2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5840"/>
            <a:ext cx="9144000" cy="590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OPERATION, ${UGII_CAM_TEMPLATE_SET_DIR}mill_contour.o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DOCUMENTATION, ${UGII_CAM_SHOP_DOC_DIR}shop_doc.d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POST, ${UGII_CAM_POST_DIR}template_post.d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R_DEFINED_EVENTS, ${UGII_CAM_USER_DEF_EVENT_DIR}ude.cd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USER_DEF_EVENT_DIR}ude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LATE_CLSF, ${UGII_CAM_TOOL_PATH_DIR}template_clsf.d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ING_FORMAT, ${UGII_CAM_TOOL_PATH_DIR}clsf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TOOL_PATH_DIR}clsf_listing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TOOL, ${UGII_CAM_LIBRARY_TOOL_ASCII_DIR}dbc_tool_ascii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TOOL_ASCII_DIR}dbc_tool_ascii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MACHINE, ${UGII_CAM_LIBRARY_MACHINE_ASCII_DIR}dbc_machine_ascii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MACHINE_ASCII_DIR}dbc_machine_ascii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FEEDS_SPEEDS, ${UGII_CAM_LIBRARY_FEEDS_SPEEDS_ASCII_DIR}feeds_speed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feeds_speed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PART_MATERIAL, ${UGII_CAM_LIBRARY_FEEDS_SPEEDS_ASCII_DIR}part_material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part_material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TOOL_MATERIAL, ${UGII_CAM_LIBRARY_FEEDS_SPEEDS_ASCII_DIR}tool_material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tool_material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_CUT_METHOD, ${UGII_CAM_LIBRARY_FEEDS_SPEEDS_ASCII_DIR}cut_methods.def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{UGII_CAM_LIBRARY_FEEDS_SPEEDS_ASCII_DIR}cut_methods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ZARD, ${UGII_CAM_WIZARD_DIR}wizard_mill_contour.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579132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ach directory structur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6880" y="12193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the resource files are in one pla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ustom directory may be used for customized postprocessors, configuration files, shop docs, 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vironment variables are used to specify where the system looks for fil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295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Format of MOM dat files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s, CLSF, ShopDoc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line contains 3 fiel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784760"/>
            <a:ext cx="8763120" cy="192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ll 3 axis fast, mill3ax_fast.tcl, mill3ax_fast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ll 3 axis review, mill3ax_review.tcl, mill3ax_fast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nuc NURBS, fanuc_nurbs.tcl, fanuc_nurbs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kron NURBS, mikron_nurbs.tcl, mikron_nurbs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ders Poly, roders_poly.tcl, roders_poly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emens Poly, siemens_poly.tcl, siemens_poly.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2009520" cy="280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3657600"/>
            <a:ext cx="2286000" cy="457200"/>
          </a:xfrm>
          <a:prstGeom prst="wedgeEllipseCallout">
            <a:avLst>
              <a:gd name="adj1" fmla="val 1805"/>
              <a:gd name="adj2" fmla="val 212847"/>
            </a:avLst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alog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657600"/>
            <a:ext cx="2590560" cy="457200"/>
          </a:xfrm>
          <a:prstGeom prst="wedgeEllipseCallout">
            <a:avLst>
              <a:gd name="adj1" fmla="val 2574"/>
              <a:gd name="adj2" fmla="val 223611"/>
            </a:avLst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nt Hand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657600"/>
            <a:ext cx="2438280" cy="457200"/>
          </a:xfrm>
          <a:prstGeom prst="wedgeEllipseCallout">
            <a:avLst>
              <a:gd name="adj1" fmla="val 2736"/>
              <a:gd name="adj2" fmla="val 210763"/>
            </a:avLst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finition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Postprocessor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3580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MPLATE_POST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{UGII_CAM_POST_DIR}template_post.d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1981440" cy="2530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280" y="4614840"/>
            <a:ext cx="8839440" cy="2014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L 3_AXI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{UGII_CAM_POST_DIR}mill3ax.tcl,${UGII_CAM_POST_DIR}mill3ax.d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L 4_AXI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{UGII_CAM_POST_DIR}m4bh.tcl,${UGII_CAM_POST_DIR}m4bh.d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L 5_AXI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{UGII_CAM_POST_DIR}m5abtt.tcl,${UGII_CAM_POST_DIR}m5abtt.d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066680"/>
            <a:ext cx="5715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st of p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lacing the generic machine with a library machine changes the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Where are things defined?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3352680"/>
            <a:ext cx="8152920" cy="1143000"/>
            <a:chOff x="228600" y="3352680"/>
            <a:chExt cx="8152920" cy="1143000"/>
          </a:xfrm>
        </p:grpSpPr>
        <p:sp>
          <p:nvSpPr>
            <p:cNvPr id="71" name=""/>
            <p:cNvSpPr/>
            <p:nvPr/>
          </p:nvSpPr>
          <p:spPr>
            <a:xfrm>
              <a:off x="228600" y="3352680"/>
              <a:ext cx="1904760" cy="1143000"/>
            </a:xfrm>
            <a:prstGeom prst="flowChartDocumen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1960" y="3352680"/>
              <a:ext cx="601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TEMPLATE_POST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${UGII_CAM_POST_DIR}template_post.d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28600" y="1676520"/>
            <a:ext cx="8914680" cy="1218960"/>
            <a:chOff x="228600" y="1676520"/>
            <a:chExt cx="8914680" cy="1218960"/>
          </a:xfrm>
        </p:grpSpPr>
        <p:sp>
          <p:nvSpPr>
            <p:cNvPr id="74" name=""/>
            <p:cNvSpPr/>
            <p:nvPr/>
          </p:nvSpPr>
          <p:spPr>
            <a:xfrm>
              <a:off x="228600" y="1676520"/>
              <a:ext cx="1937880" cy="1218960"/>
            </a:xfrm>
            <a:prstGeom prst="flowChartDocument">
              <a:avLst/>
            </a:prstGeom>
            <a:solidFill>
              <a:srgbClr val="d8000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gii_en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99040" y="1828800"/>
              <a:ext cx="674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GII_CAM_POST_DIR=${UGII_CAM_RESOURCE_DIR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ostprocesso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holt</cp:lastModifiedBy>
  <cp:lastPrinted>1998-06-16T23:53:18Z</cp:lastPrinted>
  <dcterms:modified xsi:type="dcterms:W3CDTF">2000-02-18T17:18:56Z</dcterms:modified>
  <cp:revision>91</cp:revision>
  <dc:subject/>
  <dc:title>No Slide Title</dc:title>
</cp:coreProperties>
</file>