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60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2688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43F6061-56B4-4B7E-92FB-5C46A808B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337C379-E4E2-41D2-B68F-83202FC9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F42201-888A-4837-9CDC-B19842B50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01691C-3099-4249-AC2E-20264DDC5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D16245-8A23-4E9C-AC41-DE2E9069B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F9D018-31F8-4230-94CF-64A8C9FB2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7DCC5F-0944-4D66-ABD8-792DFCF32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9AEABC-FF46-45C2-9486-81DDED8AA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CEC967-28B4-4E53-9531-DFD3D1BBD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89631C-14C9-4AB4-BD37-B30455061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D4CCEA-D31A-4DFA-B9AC-1B6D1D1A5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0192448-DD88-47AF-B607-739BC08A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UGPOST Kinematics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 Suderm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y the kinematics variables to output arcs  at every quadrant boundary and only in the XY plan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machine_type  5_axis_dual_he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4th_axis_plane  Y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4th_axis_min_limit -2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4th_axis_max_limit 20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5th_axis_plane  X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5th_axis_min_limit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5th_axis_max_limit 36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pivot_gauge_offset 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output_mode quadra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mom_kin_valid_plane x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Kinematic Variabl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Kinemat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riables define machine tool specific information used by the event generator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Kinemat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riables defined by the event handler, determine how the event generator converts the x,y,z,i,j,k toolpath coordinates into machine tool coordinate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Kinemat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riables are also used to  define the basic type of machine: lathe, mill or wed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Basic Types of Machin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1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kin_machine_typ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th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_axis_mil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_axis_he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_axis_t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_axis_dual_t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_axis_dual_he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_axis_head_t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_axis_wed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_axis_wed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Lath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15520" cy="20574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the machine type is set to lathe, all coordinates in the tool path will be mapped to lathe coordinate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83960" y="3733920"/>
            <a:ext cx="5721840" cy="520560"/>
            <a:chOff x="1983960" y="3733920"/>
            <a:chExt cx="5721840" cy="520560"/>
          </a:xfrm>
        </p:grpSpPr>
        <p:sp>
          <p:nvSpPr>
            <p:cNvPr id="56" name=""/>
            <p:cNvSpPr/>
            <p:nvPr/>
          </p:nvSpPr>
          <p:spPr>
            <a:xfrm>
              <a:off x="1983960" y="3733920"/>
              <a:ext cx="229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UG Tool Pa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06600" y="3733920"/>
              <a:ext cx="259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Machine Bloc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10400" y="4267080"/>
            <a:ext cx="482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x,y,z     --&gt;     x,0,z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il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67800" cy="2133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the machine type is set to a mill type, the event generator will map the x,y,z,i,j,k toolpath coordinates to x, y, z, 4th axis rotary &amp; 5th axis rotary coordinate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08000" y="3962520"/>
            <a:ext cx="5721840" cy="520560"/>
            <a:chOff x="1908000" y="3962520"/>
            <a:chExt cx="5721840" cy="520560"/>
          </a:xfrm>
        </p:grpSpPr>
        <p:sp>
          <p:nvSpPr>
            <p:cNvPr id="62" name=""/>
            <p:cNvSpPr/>
            <p:nvPr/>
          </p:nvSpPr>
          <p:spPr>
            <a:xfrm>
              <a:off x="1908000" y="3962520"/>
              <a:ext cx="229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UG Tool Pa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30640" y="3962520"/>
              <a:ext cx="259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Machine Bloc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755360" y="4419720"/>
            <a:ext cx="57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x,y,z,i,j,k --&gt; x,y,z,a,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il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15520" cy="19814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achine tool type defines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mb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f axes.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rotary axis has the following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10400" y="3352680"/>
            <a:ext cx="38257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d8000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lane of r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d8000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vel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d8000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rection of ro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d8000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ero pos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ircl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m_kin_arc_output_mo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inem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riable determines the data and number of blocks that will be generated for arcs in the toolpath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LL_CIRC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circle_move event will be generated in 360 degree increment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DRA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circle_move event will be generated for each quadrant boundary cros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NEA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setting will cause the event generator to break the arcs into linear goto event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ircl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m_kin_arc_valid_plan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s kinematic variable determines the planes that the event generator will generate circle_move event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Y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cs will be generated in all three principal plane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cs will generated only in the XY plane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cs will generated only in the YZ plane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Z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cs will generated only in the ZX plane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y the kinematics variables to make a five axis machine with the following feature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th axis -- Tilting A in YZ plane, limits are +/- 20 degre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th axis -- Swiveling head C in XY plane, limits are 0-360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ivot point is 10 inch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holt</cp:lastModifiedBy>
  <cp:lastPrinted>1998-06-16T23:54:26Z</cp:lastPrinted>
  <dcterms:modified xsi:type="dcterms:W3CDTF">2000-02-18T17:05:48Z</dcterms:modified>
  <cp:revision>87</cp:revision>
  <dc:subject/>
  <dc:title>No Slide Title</dc:title>
</cp:coreProperties>
</file>