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UG Post Base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n Suderm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G Post Base Equality Utiliti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MS Mincho"/>
              </a:rPr>
              <a:t>The following procs maybe used to easily determine the value of the condition.  For examp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 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807732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EQ_is_equa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(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$holedepth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,0.0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compares the variable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$holedept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to 0.0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Returns true or false (0 or 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EQ_is_equal(s, t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(abs(s-t) &lt;= mom_system_toleranc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Returns true if scalars ar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eq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EQ_is_ge(s, t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(s &gt; t - mom_system_toleranc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Returns true if s i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greater tha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equa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to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EQ_is_gt(s, t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(s &gt; t + mom_system_toleranc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Returns true if s i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greater tha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EQ_is_le(s, t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(s &lt; t + mom_system_toleran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Returns true if s i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less tha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equa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to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EQ_is_lt(s, t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(s &lt; t - mom_system_toleranc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Returns true if s i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less tha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EQ_is_zero(s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(abs(s) &lt; mom_system_toleran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Returns true if scalar i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G Post Vector Math Utiliti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The following procs maybe used to perform basic vector mathematics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3120" y="1828800"/>
            <a:ext cx="7053840" cy="42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add(u,v,w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w = u + v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Vector add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cross(u,v,w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w = ( u X v )    Vector cross 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dot(u,v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(u dot v)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Vector dot 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init(x,y,z,w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w = (x, y, z)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Initialize a vect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is_equal(u,v,tol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(||(u-v)|| &lt; tol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Are vectors equal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is_zero(u,tol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(|| u || &lt; tol)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Is vector zer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mag(u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( || u || )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Vector magnitu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negate(u,w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w = (-u)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Vector neg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scale(s,u,w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w = (s*u)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Vector s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sub(u,v,w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w = u - v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Vector subt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MS Mincho"/>
              </a:rPr>
              <a:t>VEC3_unitize(u,tol,len,w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*len = || u ||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Vector unitizatio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w = u / *len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G Post Base Matrix Utiliti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The following procs maybe used to perform matrix function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676520"/>
            <a:ext cx="876312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init_x_y_z (u, v, w, r)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r = (u, v, w)            Initialize a matrix from a given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x, y and z ve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is_equal(m,n,a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(m == n)                 Determine if two matrices a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equal to within a given tole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multiply(m, n, 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)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r = ( m X n )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Matrix multi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transpose(m, 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)            r = trns(m)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Transpose of mat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scale(s,r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r = (s*(u))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Scale a matrix by 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sub(m,n,r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r = (m - n)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Matrix subtr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add(m,n,r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r = (m - n)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Matrix add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vec_multiply(u, m, w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)   w = (u X m)          Vector/matrix multi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x(m, w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w = (1st column)   First column vector of mat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y(m, w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w = (2nd column) Second column vector of mat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MTX3_z(m, w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w = (3rd column)  Third column vector of matrix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G Post Base Utiliti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isset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utility determines is a variable has been defined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{[isset mom_kin_machine_type] == "n"}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machine_type MILL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{[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ss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y1] == “y”} {puts “variable y1 exists”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480" y="1193760"/>
            <a:ext cx="7864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MS Mincho"/>
              </a:rPr>
              <a:t>The following proc is used to verify is a variable exist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G Post Base Utiliti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MS Mincho"/>
              </a:rPr>
              <a:t>The following proc is used to verify is a variable exist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768320"/>
            <a:ext cx="8763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MS Mincho"/>
              </a:rPr>
              <a:t>Th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MS Mincho"/>
              </a:rPr>
              <a:t>hiset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MS Mincho"/>
              </a:rPr>
              <a:t> utility to return TRUE(1) if the variable v1 is set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MS Mincho"/>
              </a:rPr>
              <a:t>else FALSE(0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et x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[hiset xx] returns xx as TRUE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[hiset yy] returns yy as FALSE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if {[hiset yy]} {puts $list_file "yy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G Post Base Utiliti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MS Mincho"/>
              </a:rPr>
              <a:t>The following proc is used to format a variable and retur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057400"/>
            <a:ext cx="89154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MS Mincho"/>
              </a:rPr>
              <a:t>Th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MS Mincho"/>
              </a:rPr>
              <a:t>fmt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MS Mincho"/>
              </a:rPr>
              <a:t> utility returns variable v1 after formatting it per f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et x [fmt $y “&amp;__3.3_"]  sets and returns x after formatting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MS Mincho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per format &amp;__3.3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G Post Base Utiliti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MS Mincho"/>
              </a:rPr>
              <a:t>The following values are set in UGPost_Base.tc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0574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et PI [expr 2.0 * asin(1.0)]   value of 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et RAD2DEG [expr 90.0 / asin(1.0)] converts radians to deg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et DEG2RAD [expr asin(1.0) / 90.0] converts degrees to radi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holt</cp:lastModifiedBy>
  <cp:lastPrinted>1998-06-16T23:32:30Z</cp:lastPrinted>
  <dcterms:modified xsi:type="dcterms:W3CDTF">2000-02-18T17:13:19Z</dcterms:modified>
  <cp:revision>101</cp:revision>
  <dc:subject/>
  <dc:title>No Slide Title</dc:title>
</cp:coreProperties>
</file>