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14533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1460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26880" y="703440"/>
            <a:ext cx="4692600" cy="35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52200" y="4459320"/>
            <a:ext cx="5241960" cy="4222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C52277C-7EC0-4D5F-ADB8-D8F37B057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2B90E5C-A156-46F4-B386-6C389008D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8765B12-8320-4536-AAFF-3B178A771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55C5B7F-31A1-41DA-84A8-6CFAF6681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59B88C3-808F-4605-81E4-AE22631BA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B164512-9DF0-4AF9-9B46-F05A53A3E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D4E4747-B064-409E-ADAD-A783A1801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2DB8CB3-50C2-446A-B92A-326EBEE85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CBF8B7C-C446-465F-B4A9-F249AB80D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D5E876A-170F-4076-AA8C-D301C2239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223D6B2-CB18-4FBF-946C-8B565A824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128CF73-BF23-402A-811A-321572A28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5412DD5-A06B-40EA-B8BD-4146142CC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7A03DB3-09D5-4631-90FF-86DAB546A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C0A23B8-505D-448A-A631-C2399CA9A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833674C-0655-44EE-8C2C-41DC3905C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5D3E52B-B34E-44A8-B905-82CB6FBDC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6FAB0F5-1A19-44F2-8D9E-72EC430F2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90D43BA-82F7-454A-BD71-CB3933795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5E0B0DE-3C08-42A6-8288-0E063779F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F95226D-94B1-4419-B666-86579BCC4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ADA122B-1558-4F7C-9A86-D021B1F7E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A1D02E7-4F1C-4C89-915A-B97DB88C7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4A50D4D-0442-46D3-AB9D-07E0B2183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EDF3663-C666-4E78-9E60-0DAD901BD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0255BD2-B89A-4534-B699-5C70EFA45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049640" y="891504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D6F804E-DC57-4705-A3AF-13E0CF775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891504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-360"/>
            <a:ext cx="309708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049640" y="-360"/>
            <a:ext cx="30974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25440" y="6652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52200" y="4458960"/>
            <a:ext cx="52419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69660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639000"/>
            <a:ext cx="80010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8000a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d8000a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62940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UGSol_Sig_stack_white_ppt" descr=""/>
          <p:cNvPicPr/>
          <p:nvPr/>
        </p:nvPicPr>
        <p:blipFill>
          <a:blip r:embed="rId2"/>
          <a:stretch/>
        </p:blipFill>
        <p:spPr>
          <a:xfrm>
            <a:off x="7620120" y="6019920"/>
            <a:ext cx="137160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UGPOST Event Handler Fil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n Suderm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vent Procedure Exampl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 MOM_start_of_path  {}  {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lobal  mom_operation_typ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lobal   mom_path_nam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output_literal “Operation_type: $mom_operation_type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output_literal “Operation_name: $mom_path_name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MOM_suppress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M_suppress &lt;Always|Once|Off&gt;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ddress_1,...,address_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command will suppress the output of the address in any block template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ways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ce alway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c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ce once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f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ce off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suppress Once 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vent Procedure Exampl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1552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 MOM_start_of_program  {}  {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suppress Once 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output_literal “%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vent Procedure Exampl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1552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 MOM_linear_move  {}  {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do_template line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MOM_forc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M_force &lt;Always|Once|Off&gt;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ddress_1,...,address_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next time a block template that contains any of the addresses, the system will  output the value of the addres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ways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ce alway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c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ce once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f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ce off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force Once X Y Z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vent Procedure Exampl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1552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 MOM_initial_move  {}  {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force Once X Y Z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do_template initial_mov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MOM_set_seq_on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M_set_seq_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ow output of the sequence number if SEQUENCE specifier was given in the definition file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set_seq_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MOM_set_seq_off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M_set_seq_off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 not output a sequence number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set_seq_off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1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ify the procedure start_of_program in my_post.tcl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up a line without N but with %471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up a Header with no 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utpu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d8000a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dat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d8000a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log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d8000a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part_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up a line to output “G40 G80 G17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2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ify the procedure start_of_path in my_post.tcl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utpu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operation_typ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path_nam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tool_nam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tool_typ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tool_numb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UG Post Architectur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3640" y="1752480"/>
            <a:ext cx="131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UG Data 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736720"/>
            <a:ext cx="1555920" cy="327024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5511960" y="3432240"/>
            <a:ext cx="2060280" cy="1676160"/>
            <a:chOff x="5511960" y="3432240"/>
            <a:chExt cx="2060280" cy="1676160"/>
          </a:xfrm>
        </p:grpSpPr>
        <p:sp>
          <p:nvSpPr>
            <p:cNvPr id="53" name=""/>
            <p:cNvSpPr/>
            <p:nvPr/>
          </p:nvSpPr>
          <p:spPr>
            <a:xfrm>
              <a:off x="5511960" y="3432240"/>
              <a:ext cx="2060280" cy="1676160"/>
            </a:xfrm>
            <a:custGeom>
              <a:avLst/>
              <a:gdLst/>
              <a:ahLst/>
              <a:rect l="l" t="t" r="r" b="b"/>
              <a:pathLst>
                <a:path w="1298" h="1056">
                  <a:moveTo>
                    <a:pt x="130" y="0"/>
                  </a:moveTo>
                  <a:lnTo>
                    <a:pt x="107" y="5"/>
                  </a:lnTo>
                  <a:lnTo>
                    <a:pt x="84" y="10"/>
                  </a:lnTo>
                  <a:lnTo>
                    <a:pt x="38" y="36"/>
                  </a:lnTo>
                  <a:lnTo>
                    <a:pt x="7" y="77"/>
                  </a:lnTo>
                  <a:lnTo>
                    <a:pt x="0" y="129"/>
                  </a:lnTo>
                  <a:lnTo>
                    <a:pt x="0" y="921"/>
                  </a:lnTo>
                  <a:lnTo>
                    <a:pt x="7" y="973"/>
                  </a:lnTo>
                  <a:lnTo>
                    <a:pt x="38" y="1014"/>
                  </a:lnTo>
                  <a:lnTo>
                    <a:pt x="84" y="1045"/>
                  </a:lnTo>
                  <a:lnTo>
                    <a:pt x="107" y="1050"/>
                  </a:lnTo>
                  <a:lnTo>
                    <a:pt x="130" y="1055"/>
                  </a:lnTo>
                  <a:lnTo>
                    <a:pt x="1167" y="1055"/>
                  </a:lnTo>
                  <a:lnTo>
                    <a:pt x="1190" y="1050"/>
                  </a:lnTo>
                  <a:lnTo>
                    <a:pt x="1213" y="1045"/>
                  </a:lnTo>
                  <a:lnTo>
                    <a:pt x="1259" y="1014"/>
                  </a:lnTo>
                  <a:lnTo>
                    <a:pt x="1289" y="973"/>
                  </a:lnTo>
                  <a:lnTo>
                    <a:pt x="1297" y="921"/>
                  </a:lnTo>
                  <a:lnTo>
                    <a:pt x="1297" y="129"/>
                  </a:lnTo>
                  <a:lnTo>
                    <a:pt x="1289" y="77"/>
                  </a:lnTo>
                  <a:lnTo>
                    <a:pt x="1259" y="36"/>
                  </a:lnTo>
                  <a:lnTo>
                    <a:pt x="1213" y="10"/>
                  </a:lnTo>
                  <a:lnTo>
                    <a:pt x="1190" y="5"/>
                  </a:lnTo>
                  <a:lnTo>
                    <a:pt x="1167" y="0"/>
                  </a:lnTo>
                  <a:lnTo>
                    <a:pt x="130" y="0"/>
                  </a:lnTo>
                </a:path>
              </a:pathLst>
            </a:custGeom>
            <a:solidFill>
              <a:srgbClr val="d8000a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65680" y="3540240"/>
              <a:ext cx="174960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ba00"/>
                  </a:solidFill>
                  <a:latin typeface="Times New Roman"/>
                </a:rPr>
                <a:t>UG Post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514600" y="3124080"/>
            <a:ext cx="1143000" cy="2454480"/>
          </a:xfrm>
          <a:prstGeom prst="rect">
            <a:avLst/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Ev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a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1523880"/>
            <a:ext cx="2997360" cy="1219320"/>
          </a:xfrm>
          <a:prstGeom prst="rect">
            <a:avLst/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Event Hand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1523880"/>
            <a:ext cx="2971800" cy="1219320"/>
          </a:xfrm>
          <a:prstGeom prst="rect">
            <a:avLst/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Definitio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5486400"/>
            <a:ext cx="1828800" cy="822240"/>
          </a:xfrm>
          <a:prstGeom prst="rect">
            <a:avLst/>
          </a:prstGeom>
          <a:solidFill>
            <a:srgbClr val="d800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a00"/>
                </a:solidFill>
                <a:latin typeface="Times New Roman"/>
              </a:rPr>
              <a:t>Output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60840" y="3719520"/>
            <a:ext cx="18511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659040" y="4087440"/>
            <a:ext cx="1851120" cy="11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60840" y="4862520"/>
            <a:ext cx="18511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60840" y="4481640"/>
            <a:ext cx="18511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82520" y="3352680"/>
            <a:ext cx="132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Event 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83040" y="3719520"/>
            <a:ext cx="92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vari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83040" y="4086360"/>
            <a:ext cx="92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vari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83040" y="4452840"/>
            <a:ext cx="92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a00"/>
                </a:solidFill>
                <a:latin typeface="Times New Roman"/>
              </a:rPr>
              <a:t>vari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4320" y="3719520"/>
            <a:ext cx="5302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106960" y="2744280"/>
            <a:ext cx="758880" cy="682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089840" y="2746440"/>
            <a:ext cx="301680" cy="682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02320" y="5108400"/>
            <a:ext cx="0" cy="378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2160" y="1406520"/>
            <a:ext cx="6489720" cy="1460520"/>
          </a:xfrm>
          <a:prstGeom prst="rect">
            <a:avLst/>
          </a:prstGeom>
          <a:noFill/>
          <a:ln w="25560">
            <a:solidFill>
              <a:srgbClr val="00dfc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990720"/>
            <a:ext cx="1904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dfca"/>
                </a:solidFill>
                <a:latin typeface="Times New Roman"/>
              </a:rPr>
              <a:t>User Defi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3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ify the output for the event cycle_dril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101 X Y E R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 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art position of the drill cycl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pth of hol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pid position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4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plement in the rapid move procedu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ead of G0 output G1 with 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1 X Y Z 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ercise 5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plement in the rapid move procedu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 all rapid moves output F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0 X Y Z F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1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"(######## TASK  : $mom_part_name ############)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"(# Created By   : $mom_logname)”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"(# Creation Date: $mom_date)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"(############################################)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suppress always N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"%4711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suppress off    N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"G70 G90"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”G80 G40 G17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2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"(----------------------------------------------------)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"(Operation Name: $mom_path_name)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"(Operation Type: $mom_operation_type)”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"(Tool Name: $mom_tool_name)”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"(Tool Type: $mom_tool_type)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"(Tool Number: $mom_tool_number)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M_output_literal "(----------------------------------------------------)"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3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LOCK_TEMPLATE cycle_drill {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tion_g[$mom_sys_cycle_drill_code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[$mom_cycle_feed_to_pos(0)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Y[$mom_cycle_feed_to_pos(1)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[$mom_cycle_feed_to_pos(2)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[$mom_cycle_rapid_to_pos(2)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[$mom_feed_rate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t mom_sys_cycle_drill_code 11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# create address 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DRESS E  {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RMAT Coordinat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X    9999.9999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IN    -9999.9999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RCE  off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4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t mom_sys_rapid_code 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LOCK_TEMPLATE rapid_xy { 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tion_g[$mom_sys_rapid_code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[$mom_sys_output_code($mom_output_mode)]\op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[$mom_pos(0)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Y[$mom_pos(1)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”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LOCK_TEMPLATE rapid_z {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tion_g[$mom_sys_rapid_code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[$mom_pos(2)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[$mom_tool_adjust_register]\op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”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Solution 5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t mom_sys_rapid_code 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LOCK_TEMPLATE rapid_xy { 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tion_g[$mom_sys_rapid_code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[$mom_sys_output_code($mom_output_mode)]\op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[$mom_pos(0)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Y[$mom_pos(1)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0”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LOCK_TEMPLATE rapid_z {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tion_g[$mom_sys_rapid_code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[$mom_pos(2)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[$mom_tool_adjust_register]\op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0”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vent Generator Exampl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Linear Motio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d8000a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GOTO/ x, y, z, i, j, 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vent generator creates an a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linear_mov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event with following variables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d8000a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om_pos --  machine tool x,y,z,a,b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d8000a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om_prev_pos -- previous machine tool x,y,z,a,b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d8000a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om_goto_pos -- goto in mc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d8000a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om_goto_tool_axis -- goto tool axis in mc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d8000a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om_prev_goto_pos -- previous mcs goto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d8000a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om_prev_goto_tool_axis -- previous tool axis goto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d8000a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om_feed_rate_per_min -- feedrate in inches/mm per minut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d8000a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om_feed_rate_per_rev -- feedrate in inches/mm per rev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xamples of typical events and variables loaded by the Event Generator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715160" cy="47242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linear_mov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000a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en Triggered: For each linear motion in the tool path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000a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ariables Loaded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d04"/>
              </a:buClr>
              <a:buSzPct val="12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pos(0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d04"/>
              </a:buClr>
              <a:buSzPct val="12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pos(1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d04"/>
              </a:buClr>
              <a:buSzPct val="12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pos(2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d04"/>
              </a:buClr>
              <a:buSzPct val="8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circular_mov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000a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en Triggered: For each circular motion in the tool path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8000a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ariables Loaded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d04"/>
              </a:buClr>
              <a:buSzPct val="12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pos(0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arc_center(0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d04"/>
              </a:buClr>
              <a:buSzPct val="12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pos(1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arc_center(1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d04"/>
              </a:buClr>
              <a:buSzPct val="12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pos(2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m_arc_center(2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MOM_do_templat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M_do_templat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emplate_name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nerate output based upon the Block Template template_name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do_template linea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1 X10 Y20 Z5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UG Post Base Fil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G Post base file contains basic procedures common to all postprocessors.  This file must be sourced in every event handler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event generator will provide common G and M codes for many events.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00 Stop, M01 Opstop, M02 End, M03 Spindle CLW, et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00 Rapid, G01 Linear, G02 Circle CLW, et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UG Post Base Fil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base file contains the default processing for all events.  This includes PPRINT, INSERT and other basic function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base file also includes the procedure for outputting commentary information (eyewash)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d04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base file is supplied by UG.  Any procedure in the base file may be overwritten by the user, if desired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Event Procedure Example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1552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 MOM_linear_move  {}  {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do_template linea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696600"/>
            <a:ext cx="8001000" cy="522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d04"/>
                </a:solidFill>
                <a:latin typeface="Arial"/>
              </a:rPr>
              <a:t>MOM_output_literal</a:t>
            </a:r>
            <a:endParaRPr b="1" lang="en-US" sz="3600" spc="-1" strike="noStrike">
              <a:solidFill>
                <a:srgbClr val="ffcd0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M_output_literal “string”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8000a"/>
              </a:buClr>
              <a:buSzPct val="60000"/>
              <a:buFont typeface="EDSlog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utput a list of literals and variables as a single lin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M_output_literal “Operation name: $mom_path_name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ration name: P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6T22:37:00Z</dcterms:created>
  <dc:creator>Richard W. Schenk</dc:creator>
  <dc:description/>
  <dc:language>en-US</dc:language>
  <cp:lastModifiedBy>holt</cp:lastModifiedBy>
  <cp:lastPrinted>1999-06-18T23:35:58Z</cp:lastPrinted>
  <dcterms:modified xsi:type="dcterms:W3CDTF">2000-02-17T15:16:28Z</dcterms:modified>
  <cp:revision>82</cp:revision>
  <dc:subject/>
  <dc:title>No Slide Title</dc:title>
</cp:coreProperties>
</file>