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714533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1460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26880" y="703440"/>
            <a:ext cx="4692600" cy="35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4776BA3-F13B-4FB4-9997-2A08EF0C8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15819E1-CF45-4327-AFE2-A85B326DB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334F2DA-4EA2-46CC-B9C9-E20BB9FCB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33DAAD6-E2C7-45D9-8F6F-D63655B50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54A5A9B-51B6-489A-94D2-6FFBE44B3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6CE4DCB-6268-46FF-88A8-E566E554A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16AFEDC-A05C-4D3F-BA0F-195076480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2A2B1A4-C5CE-40FC-A260-B9BCC0721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57F9DE0-9F53-4FFD-BE53-007F2C33D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FB37BD2-02CB-4117-811B-0F08E023B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BB70B51-77FB-4BD2-B21F-3C4D933B7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11F0F82-6C88-4D3A-94FB-ED99CF01D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89A9D6F-7093-44D5-BD9C-F8CB4380E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6670D92-49A8-4207-8923-F5D93E78A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9226F9C-07A9-454E-9AAD-F94642810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884165F-1D47-4813-A113-43A627158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69660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d8000a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629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UGSol_Sig_stack_white_ppt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137160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d04"/>
                </a:solidFill>
                <a:latin typeface="Arial"/>
              </a:rPr>
              <a:t>Tcl for UG POST</a:t>
            </a:r>
            <a:endParaRPr b="1" lang="en-US" sz="4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n Suderm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Variable Substitution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715160" cy="923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ar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ake the value of the variable with the nam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arnam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895480"/>
            <a:ext cx="320040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mple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a sau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b kra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c $a$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2895480"/>
            <a:ext cx="320040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=sau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=kra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=$a$b=sauerkra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ommand Substitution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715160" cy="923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ntax:  [script]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ecute script, substitute resul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651040"/>
            <a:ext cx="327672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mple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b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a [expr $b+2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a “b-3 is [expr $b-3]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2666880"/>
            <a:ext cx="4038480" cy="27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=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=$b+2=8+2=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=b-3 is [$b-3]= b-3 is [8-3]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-3 is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imple Outpu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hello world“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s command outputs the string to the runtime window of Tc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output the value of a variable, prefix a $ sign to the varible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ts stdout $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imple Output and special Character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utput Special Characters \, $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\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\\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\$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\t”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F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\013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F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\n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imple Inpu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ts stdin va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s command reads a string value from the runtime window and assigns it to a variable va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ontrolling Word Structur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d0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s break at white space and semi-colons, except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uble-quotes prevent break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t a “Funny word; has spaces”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ly braces prevent breaks and substitution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t a {nested {} braces}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slashes quote special character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t a word\ with\ \$\ and\ spac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cd0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ubstitutions don’t change word struct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a “two words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b $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pression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715160" cy="1828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d04"/>
              </a:buClr>
              <a:buSzPct val="79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-like (int and double), extra support for string operation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d04"/>
              </a:buClr>
              <a:buSzPct val="79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 for command and variable substitution within expression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d04"/>
              </a:buClr>
              <a:buSzPct val="79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sed in expr, other command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2743200"/>
            <a:ext cx="3200400" cy="33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mple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b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pr ($b*4)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pr {$b*[fac 4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a Bi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pr {$a &lt; “Anne”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2743200"/>
            <a:ext cx="3200400" cy="33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i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ontrol Structure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715160" cy="43434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-like appearanc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ust commands that take Tcl scripts as argum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{$x &lt; 3} {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ts stdout “x is too small!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x 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ontrol Structure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715160" cy="33624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witch $x  {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near { puts stdout “linear” 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rcle {puts stdout “circle” }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4114800"/>
            <a:ext cx="739152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f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re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hil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90360" y="14479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 command defines procedur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119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 sub1 x {expr $-1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edures behave just like built-in command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119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b1 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urns: 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rguments can have default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119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 decr {x {y 1}} {expr $x-$y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n have variable number of argument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119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 foo {a b args} {...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oping: local and global variab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Procedure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2819520"/>
            <a:ext cx="289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ist of arguments na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243828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243828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2363760"/>
            <a:ext cx="0" cy="303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8840" y="2666880"/>
            <a:ext cx="6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2363760"/>
            <a:ext cx="0" cy="531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2363760"/>
            <a:ext cx="0" cy="303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7640" y="2666880"/>
            <a:ext cx="6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Introduction to Tcl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cl code is contained in a Tcl script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script can contain code inside of procs and code outside of procs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code outside a proc is executed when the interpreter reads the script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code inside a proc is only executed when the proc is called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lows for local and global variables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as numeric, string, logical and relational operations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ery strong string processing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as control structures if, while, for, foreach, switch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ighly extensible, i.e., can add new commands to the interpreter very easily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as facilities for error handling, file I/O, process spawning and limited debugging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Procedure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080" y="1522440"/>
            <a:ext cx="7767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bles in Proced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ry procedure has his own variable 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rror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rrors normally abort commands in progress, application displays message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2819520"/>
            <a:ext cx="4191120" cy="17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t n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oreach i {1 2 3 4 5}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t n [expr {$n + i*i}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4800600"/>
            <a:ext cx="771516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buClr>
                <a:srgbClr val="00ffee"/>
              </a:buClr>
              <a:buSzPct val="79000"/>
              <a:buFont typeface="EDSlogo"/>
              <a:buChar char="•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ur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6920" indent="-325440">
              <a:lnSpc>
                <a:spcPct val="100000"/>
              </a:lnSpc>
              <a:spcBef>
                <a:spcPts val="601"/>
              </a:spcBef>
              <a:buClr>
                <a:srgbClr val="00ffee"/>
              </a:buClr>
              <a:buSzPct val="119000"/>
              <a:buFont typeface="Arial"/>
              <a:buChar char="•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ntax error in expression “$n + i*i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Additional Tcl Feature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79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ing manipulation command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79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le I/O command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79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ubprocesses with exec command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209680"/>
            <a:ext cx="739116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tring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ormat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plit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gex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can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o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3733920"/>
            <a:ext cx="739116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ek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ile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lo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ll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lob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et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lus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d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ad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of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w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5715000"/>
            <a:ext cx="739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xec grep foo &lt;&lt; $input | w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Array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ray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sociative array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4114800"/>
            <a:ext cx="739152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t capital(USA)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“Washington D.C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t capital(GERMANY) “Berlin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rray names capital               -&gt;      USA, GERMA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03280" y="1947960"/>
            <a:ext cx="739152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t tool_axis(0)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t tool_axis(1)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t tool_axis(2) 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pecial Info Command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cess to Tcl interna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73120" y="1973160"/>
            <a:ext cx="7391520" cy="17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fo command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shows Tcl command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fo commands {a*}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shows Tcl commands with a*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fo tclversion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Tcl vers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fo exists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varname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check exists varna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Tcl Syntax Summary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5943600" cy="49528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ript = commands separated by new line, semi-col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mand = words separated by white spa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 causes variable substitu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] causes command substitu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Tcl Syntax Summary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5867640" cy="47246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”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otes white space and semicol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{} quotes all special charact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\ quotes next character, provides C-like substitu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# for comments (must be at the beginning of command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Tcl Programming Example: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1/2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848360" cy="5181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 fact x {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{ $x &lt;= 1 } { return 1 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pr $x * [fact [expr $x - 1]]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# Mai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{ $argc != 2 } {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ts "Usage: $argv0 &lt;input file&gt; &lt;output file&gt;"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it 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Tcl Programming Example: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2/2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6551640" cy="46483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infile  [open [lindex argv 0] r]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outfile [open [lindex argv 1] w]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le { [gets $infile number] &gt;= 0 } {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value [fact $number]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ts $outfile $valu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ose $infi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ose $outfi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# Now remove input fi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ec rm [lindex argv 1]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File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1552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e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ilename access permiss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urns a point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lename = path and name of the fi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cess = r, r+, w, ..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miss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logfile [open /tmp/log.dat w]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Tcl Basics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cl scrip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quence of comman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mands separated by newline, semicol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cl comman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e or more words separated by spa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rst word is the command name, others are argum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d8000a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llows the #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File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d filechannel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name [read filechannel]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rit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filechannel “name“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tarting Tcl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X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clsh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lect the Tcl just like a progra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1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80964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lculate the following lines in Tc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*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*sin(3.1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-9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7*6)/5+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/7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0/6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2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fine the following variables in Tc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000a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=9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000a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=6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lculate the followi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000a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+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000a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*a+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000a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=a+b*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000a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=a*b/6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3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832464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utput the following in Tc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ll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llo worl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value of b is (here value of b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-b is (here value of a-b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\this is a comment\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$ 1 = DM 1,8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4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057040" y="17524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rite a Tcl script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fine two variables a and 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culation a+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utput the resul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5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ification of the Tcl scrip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d a command to input the values of a and 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culation a+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utput the resul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6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ification of the Tcl scrip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the value of a or b is 0 then output a messag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7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ification of the Tcl scrip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d a third input line, where the user could define the type of calculation (+=p, -=s, *=m, /=d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8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15160" cy="49528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rite a new scrip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000a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in program asks the user for area calcul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tang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rc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000a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st subprogram (rectangle) asks fo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ngth and width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lculates the area of the rectang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000a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nd subprogram (circle) asks fo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dius and defines p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lculates the area of the circ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amples: Script, Comment, Command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cl Scrip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47800" y="2666880"/>
            <a:ext cx="30182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is is a com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 A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 B 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 C 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709280" y="4191120"/>
            <a:ext cx="1328400" cy="1313280"/>
            <a:chOff x="1709280" y="4191120"/>
            <a:chExt cx="1328400" cy="1313280"/>
          </a:xfrm>
        </p:grpSpPr>
        <p:sp>
          <p:nvSpPr>
            <p:cNvPr id="57" name=""/>
            <p:cNvSpPr/>
            <p:nvPr/>
          </p:nvSpPr>
          <p:spPr>
            <a:xfrm>
              <a:off x="1709280" y="510552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Comman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438280" y="4191120"/>
              <a:ext cx="0" cy="838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547360" y="4191120"/>
            <a:ext cx="1398240" cy="779760"/>
            <a:chOff x="2547360" y="4191120"/>
            <a:chExt cx="1398240" cy="779760"/>
          </a:xfrm>
        </p:grpSpPr>
        <p:sp>
          <p:nvSpPr>
            <p:cNvPr id="60" name=""/>
            <p:cNvSpPr/>
            <p:nvPr/>
          </p:nvSpPr>
          <p:spPr>
            <a:xfrm>
              <a:off x="2547360" y="457200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Argume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2819520" y="4191120"/>
              <a:ext cx="304560" cy="382320"/>
              <a:chOff x="2819520" y="4191120"/>
              <a:chExt cx="304560" cy="382320"/>
            </a:xfrm>
          </p:grpSpPr>
          <p:sp>
            <p:nvSpPr>
              <p:cNvPr id="62" name=""/>
              <p:cNvSpPr/>
              <p:nvPr/>
            </p:nvSpPr>
            <p:spPr>
              <a:xfrm flipV="1">
                <a:off x="2819520" y="4191120"/>
                <a:ext cx="0" cy="3823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3124080" y="4191120"/>
                <a:ext cx="0" cy="3823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819520" y="4572000"/>
                <a:ext cx="304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4952880" y="2666880"/>
            <a:ext cx="1274400" cy="1447920"/>
            <a:chOff x="4952880" y="2666880"/>
            <a:chExt cx="1274400" cy="1447920"/>
          </a:xfrm>
        </p:grpSpPr>
        <p:sp>
          <p:nvSpPr>
            <p:cNvPr id="66" name=""/>
            <p:cNvSpPr/>
            <p:nvPr/>
          </p:nvSpPr>
          <p:spPr>
            <a:xfrm>
              <a:off x="4952880" y="266688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266688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52880" y="411480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82000" y="3124080"/>
              <a:ext cx="84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Scri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1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5640" y="17524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 5*5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 6*sin(3.14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 5-9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 (7*6)/5+5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 5/6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 5.0/6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2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9056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t a 9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t b 6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 $a+$b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 $a*$a+$b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t c [expr $a+$b*4]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t d [expr $a*$b/6]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3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28480" y="160020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Hello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“Hello world”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Hello\ worl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“the value of b is $b”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“a-b is [expr $a-$b]”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“\\this is a comment\\”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“US\$ 1 = DM 1,80”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4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8020080" cy="45720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ript1.tc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t a 10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t b 1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t c [expr $a+$b]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“result is $c”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clsh script1.tc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5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28480" y="1523880"/>
            <a:ext cx="7715160" cy="45720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t a 0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t b 0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“Please input a”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ts stdin 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“Please input b”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ts stdin b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t c [expr $a+$b]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“result is $c”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6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7715520" cy="5029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a 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b 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Please input a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ts stdin 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Please input b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ts stdin 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{ $a==0} {puts stdout “a is 0” }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{ $b==0} {puts stdout “b is 0” }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result is [expr $a+$b]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7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1/2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9680" y="144792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a 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b 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c “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Please input a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ts stdin 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Please input b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ts stdin 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Please input c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ts stdin 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7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2/2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838080"/>
            <a:ext cx="7315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{ $a==0} {puts stdout “a is 0” 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{ $b==0} {puts stdout “b is 0” 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witch $c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  { set c  [expr $a+$b] 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   { set c  [expr $a-$b] 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 { set c  [expr $a*$b] 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  { set c  [expr $a/$b] 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fault {puts stdout “no calculation”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result is $c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8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1/2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426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t a “”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“c = circle”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ts stdout “r = rectangle”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ts stdin 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witch $a {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 { rectangle }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 { circle }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fault {puts stdout “ no selection”}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17524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8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2/2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67080" y="17524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838080"/>
            <a:ext cx="67816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  rectangle {}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length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width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length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ts stdin l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width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ts stdin wid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 area [expr $length*$width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s stdout “area=$are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Interpretation of a Tcl command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83000" y="1600200"/>
            <a:ext cx="4246200" cy="411840"/>
            <a:chOff x="783000" y="1600200"/>
            <a:chExt cx="4246200" cy="411840"/>
          </a:xfrm>
        </p:grpSpPr>
        <p:sp>
          <p:nvSpPr>
            <p:cNvPr id="72" name=""/>
            <p:cNvSpPr/>
            <p:nvPr/>
          </p:nvSpPr>
          <p:spPr>
            <a:xfrm>
              <a:off x="838080" y="1600200"/>
              <a:ext cx="4191120" cy="380880"/>
            </a:xfrm>
            <a:prstGeom prst="rect">
              <a:avLst/>
            </a:prstGeom>
            <a:solidFill>
              <a:srgbClr val="d8000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83000" y="1614600"/>
              <a:ext cx="1332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mman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838080" y="2058840"/>
            <a:ext cx="8229960" cy="777240"/>
            <a:chOff x="838080" y="2058840"/>
            <a:chExt cx="8229960" cy="777240"/>
          </a:xfrm>
        </p:grpSpPr>
        <p:grpSp>
          <p:nvGrpSpPr>
            <p:cNvPr id="75" name=""/>
            <p:cNvGrpSpPr/>
            <p:nvPr/>
          </p:nvGrpSpPr>
          <p:grpSpPr>
            <a:xfrm>
              <a:off x="838080" y="2058840"/>
              <a:ext cx="1295640" cy="700920"/>
              <a:chOff x="838080" y="2058840"/>
              <a:chExt cx="1295640" cy="700920"/>
            </a:xfrm>
          </p:grpSpPr>
          <p:sp>
            <p:nvSpPr>
              <p:cNvPr id="76" name=""/>
              <p:cNvSpPr/>
              <p:nvPr/>
            </p:nvSpPr>
            <p:spPr>
              <a:xfrm>
                <a:off x="1447920" y="2058840"/>
                <a:ext cx="0" cy="3034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38080" y="2362320"/>
                <a:ext cx="1295640" cy="380880"/>
              </a:xfrm>
              <a:prstGeom prst="rect">
                <a:avLst/>
              </a:prstGeom>
              <a:solidFill>
                <a:srgbClr val="d8000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022760" y="236232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ars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3490920" y="2133720"/>
              <a:ext cx="55771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Chops command into words, makes substitutions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Does not interpret values of words</a:t>
              </a:r>
              <a:r>
                <a:rPr b="1" lang="en-US" sz="2000" spc="-1" strike="noStrike">
                  <a:solidFill>
                    <a:srgbClr val="ffba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838080" y="2820960"/>
            <a:ext cx="3691440" cy="988920"/>
            <a:chOff x="838080" y="2820960"/>
            <a:chExt cx="3691440" cy="988920"/>
          </a:xfrm>
        </p:grpSpPr>
        <p:sp>
          <p:nvSpPr>
            <p:cNvPr id="81" name=""/>
            <p:cNvSpPr/>
            <p:nvPr/>
          </p:nvSpPr>
          <p:spPr>
            <a:xfrm>
              <a:off x="1447920" y="2820960"/>
              <a:ext cx="0" cy="303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38080" y="3200400"/>
              <a:ext cx="990720" cy="152280"/>
            </a:xfrm>
            <a:prstGeom prst="rect">
              <a:avLst/>
            </a:prstGeom>
            <a:solidFill>
              <a:srgbClr val="d8000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080" y="3429000"/>
              <a:ext cx="1828800" cy="152280"/>
            </a:xfrm>
            <a:prstGeom prst="rect">
              <a:avLst/>
            </a:prstGeom>
            <a:solidFill>
              <a:srgbClr val="d8000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8080" y="3657600"/>
              <a:ext cx="990720" cy="152280"/>
            </a:xfrm>
            <a:prstGeom prst="rect">
              <a:avLst/>
            </a:prstGeom>
            <a:solidFill>
              <a:srgbClr val="d8000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08280" y="3367080"/>
              <a:ext cx="92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Word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807120" y="3886200"/>
            <a:ext cx="7401240" cy="1065960"/>
            <a:chOff x="807120" y="3886200"/>
            <a:chExt cx="7401240" cy="1065960"/>
          </a:xfrm>
        </p:grpSpPr>
        <p:sp>
          <p:nvSpPr>
            <p:cNvPr id="87" name=""/>
            <p:cNvSpPr/>
            <p:nvPr/>
          </p:nvSpPr>
          <p:spPr>
            <a:xfrm>
              <a:off x="3585600" y="4341960"/>
              <a:ext cx="462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Interprets words, produces string resul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62320" y="3886200"/>
              <a:ext cx="0" cy="303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8440" y="4249800"/>
              <a:ext cx="1295280" cy="685800"/>
            </a:xfrm>
            <a:prstGeom prst="rect">
              <a:avLst/>
            </a:prstGeom>
            <a:solidFill>
              <a:srgbClr val="d8000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7120" y="4249800"/>
              <a:ext cx="13327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mman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ced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838080" y="5030640"/>
            <a:ext cx="3696120" cy="548280"/>
            <a:chOff x="838080" y="5030640"/>
            <a:chExt cx="3696120" cy="548280"/>
          </a:xfrm>
        </p:grpSpPr>
        <p:sp>
          <p:nvSpPr>
            <p:cNvPr id="92" name=""/>
            <p:cNvSpPr/>
            <p:nvPr/>
          </p:nvSpPr>
          <p:spPr>
            <a:xfrm>
              <a:off x="838080" y="5410080"/>
              <a:ext cx="990720" cy="152640"/>
            </a:xfrm>
            <a:prstGeom prst="rect">
              <a:avLst/>
            </a:prstGeom>
            <a:solidFill>
              <a:srgbClr val="d8000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33520" y="5030640"/>
              <a:ext cx="0" cy="303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55800" y="518148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Resul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Variable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ariable nam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phanumerical characters, must start with a lett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space in the variable 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se sensitiv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cl is a type-free langua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ariable valu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 values are stored as string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lculations are performed by special func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Variables Exampl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ariable nam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stomer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_drill_tool_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_DRILL_TOOL_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Variable Definition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X=4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X=5*9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c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t X 4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t X [ expr 5*9 ]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Variable Definition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715160" cy="923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1523880"/>
            <a:ext cx="3505320" cy="38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mple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b 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a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a $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a $b+$b+$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a $b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t a $b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1523880"/>
            <a:ext cx="3200400" cy="38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=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=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=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=$b+$b+$b=66+66+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=$b.3=66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 such variable</a:t>
            </a: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6T22:37:00Z</dcterms:created>
  <dc:creator>Richard W. Schenk</dc:creator>
  <dc:description/>
  <dc:language>en-US</dc:language>
  <cp:lastModifiedBy>holt</cp:lastModifiedBy>
  <cp:lastPrinted>1998-06-16T23:55:32Z</cp:lastPrinted>
  <dcterms:modified xsi:type="dcterms:W3CDTF">2000-02-18T17:17:57Z</dcterms:modified>
  <cp:revision>82</cp:revision>
  <dc:subject/>
  <dc:title>No Slide Title</dc:title>
</cp:coreProperties>
</file>