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rcRect l="0" t="0" r="0" b="11314"/>
          <a:stretch/>
        </p:blipFill>
        <p:spPr>
          <a:xfrm>
            <a:off x="7620120" y="6095880"/>
            <a:ext cx="13716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UGPOST Tcl Interpreter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 Suderm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d04"/>
                </a:solidFill>
                <a:latin typeface="Arial"/>
              </a:rPr>
              <a:t>Tcl Interpreter</a:t>
            </a:r>
            <a:endParaRPr b="1" lang="en-US" sz="40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ows a “hookup” to the Tcl interpret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ows access to to UG part file data and functionality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ows users to create their own Tcl extension to UGP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ows users to create Special Tcl exten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s existing UFUNC librari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quires a UFUNC license and C compli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d04"/>
                </a:solidFill>
                <a:latin typeface="Arial"/>
              </a:rPr>
              <a:t>Tcl Interpreter (con’t)</a:t>
            </a:r>
            <a:endParaRPr b="1" lang="en-US" sz="40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s functions inside the file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uf_mom.h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quires user to create a shared library (.dll) for each hardware platfor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r can ask and set variables in the interpre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r can access CAM exits which are associated with the Tcl interpret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d04"/>
                </a:solidFill>
                <a:latin typeface="Arial"/>
              </a:rPr>
              <a:t>Tcl Interpreter Possible Uses</a:t>
            </a:r>
            <a:endParaRPr b="1" lang="en-US" sz="40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act Part Attribu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act Entity Attribu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act Mass/Volume valu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trieve file names of fixturing us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trieve spline, nurb, curve data, .et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trieve data on model features to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ally select machining templa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ally select cutting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d04"/>
                </a:solidFill>
                <a:latin typeface="Arial"/>
              </a:rPr>
              <a:t>Tcl Interpreter </a:t>
            </a:r>
            <a:endParaRPr b="1" lang="en-US" sz="40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 coding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400" y="1600200"/>
            <a:ext cx="812844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*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tern int example_entry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*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a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*para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le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      *sta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F_MOM_id_t   mo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* Get the MOM id from the Ufunc param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F_MOM_ask_mom( param, &amp;mom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* Now extend the interpreter with a new function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F_MOM_extend_xlator( mom, “UGPOST_open_part_file”, openPartFile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F_MOM_extend_xlator( mom, “UGPOST_add”, myAdd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bj = mom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turn (0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1:45:23Z</dcterms:created>
  <dc:creator>Mark Rief</dc:creator>
  <dc:description/>
  <dc:language>en-US</dc:language>
  <cp:lastModifiedBy>holt</cp:lastModifiedBy>
  <cp:lastPrinted>2000-01-27T15:27:42Z</cp:lastPrinted>
  <dcterms:modified xsi:type="dcterms:W3CDTF">2000-02-18T17:06:37Z</dcterms:modified>
  <cp:revision>85</cp:revision>
  <dc:subject/>
  <dc:title>CAM Wizards - Why?</dc:title>
</cp:coreProperties>
</file>