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520" y="696600"/>
            <a:ext cx="8001000" cy="24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d8000a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6629400"/>
            <a:ext cx="7162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" name="UGSol_Sig_stack_white_ppt" descr=""/>
          <p:cNvPicPr/>
          <p:nvPr/>
        </p:nvPicPr>
        <p:blipFill>
          <a:blip r:embed="rId2"/>
          <a:srcRect l="0" t="0" r="0" b="11314"/>
          <a:stretch/>
        </p:blipFill>
        <p:spPr>
          <a:xfrm>
            <a:off x="7620120" y="6095880"/>
            <a:ext cx="1371600" cy="609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160" y="182844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d04"/>
                </a:solidFill>
                <a:latin typeface="Arial"/>
              </a:rPr>
              <a:t>UGPOST </a:t>
            </a:r>
            <a:br>
              <a:rPr sz="4800"/>
            </a:br>
            <a:r>
              <a:rPr b="1" lang="en-US" sz="4800" spc="-1" strike="noStrike">
                <a:solidFill>
                  <a:srgbClr val="ffcd04"/>
                </a:solidFill>
                <a:latin typeface="Arial"/>
              </a:rPr>
              <a:t>User Defined Event File</a:t>
            </a:r>
            <a:endParaRPr b="1" lang="en-US" sz="48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an Suderma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Exercise 2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ke a new user defined event with the following format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oad new Co-ordinate system (G54…G59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ke an event handler for it and output the following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59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Exercise 3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ke a new user defined event with the following format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oad Fixture Offset Regist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ke an event handler for it and output the following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12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8001000" cy="52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Solution 1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VENT coolant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OST_EVENT "coolant_on"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UI_LABEL "Coolant On"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ARAM command_status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YPE o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DEFVAL "Active"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OPTIONS "Active","Inactive","User Defined"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UI_LABEL "Status"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ARAM coolant_mode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YPE o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DEFVAL "Flood“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&lt;&lt; “Mist”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OPTIONS "On","Flood","Mist","Tap"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UI_LABEL "Type"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Solution 2 UDE 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7652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5000"/>
          </a:bodyPr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EVENT sys_offset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OST_EVENT "csys_load"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UI_LABEL "Co-ordinate Sys Offset"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ATEGORY Mill Drill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ARAM command_statu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YPE o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EFVAL "Inactive"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OPTIONS "Active","Inactive"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UI_LABEL "Status"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ARAM csys_register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YPE   o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EFVAL "54“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OPTIONS “54”,”55”,”56”,”57”,”58”,”59”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UI_LABEL "Co-ordinate System"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}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Solution 2 Event Handler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 the tcl file add the following in MOM_initial_move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OM_do_template path_star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 the def file add the following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LOCK_TEMPLATE path_start {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G[00] G[90] G[$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mom_csys_register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}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Solution 3 UDE 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67652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5000"/>
          </a:bodyPr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EVENT fixt_load_offset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OST_EVENT “fixt_load"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UI_LABEL “Load Fixture Offset"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ATEGORY Mill Drill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ARAM command_statu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YPE o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EFVAL "Inactive"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OPTIONS "Active","Inactive"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UI_LABEL "Status"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ARAM fixt_register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YPE   i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EFVAL “22“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OGGLE Off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UI_LABEL “Fixture Offset Register"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}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Solution 3 Event Handler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ORMAT  e_code  "&amp;__2_0_"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DDRESS E  {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ORMAT e_cod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AX    99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IN    0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ORCE  off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LOCK_TEMPLATE rapid_xy {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g_motion[$mom_sys_rapid_code]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X[$mom_pos(0)]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Y[$mom_pos(1)]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[$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mom_fixt_register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]\op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}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User Defined Events (UDE)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DEs describe the format of all APT style post command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ll UDEs are defined in a file called ude.cdl in the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$UGII_BASE_DIR/mach/resource/user_def_event/ude.cd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DEs can be specified at the start or end of path or attached to any object in CAM (program, tool, machine tool, etc.) using the Machine Control Dialo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DEs generate events in UG Post with all event data being passed to the post processor as mom variables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510552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User Defined Events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3657600"/>
            <a:ext cx="8839440" cy="2562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VENT spindl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I_LABEL "Spindle On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TEGORY MILL DRILL LAT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RAM command_stat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YPE 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FVAL "Active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TIONS "Active","Inactive","User Defined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I_LABEL "Status” 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685800"/>
            <a:ext cx="5943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ude.cdl file defines ev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corresponding procedure in the .tcl file is required for outp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an be included in the .def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ude.cdl is referenced by the configuration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0" r="0" b="46944"/>
          <a:stretch/>
        </p:blipFill>
        <p:spPr>
          <a:xfrm>
            <a:off x="5943600" y="15228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934320" y="609480"/>
            <a:ext cx="1981080" cy="30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User Defined Events Syntax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VENT &lt;name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{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OST_EVENT &lt;post_name&gt;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UI_LABEL &lt;ui_name&gt;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LASS Type, subtype, subtype; Type, subtype, subtype;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ATEGORY Mill | Drill | Lathe | WEDM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ARAM &lt;param_name1&gt;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{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YPE i | d | s | o | p DEFVAL &lt;default value as string&gt;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OGGLE Off | On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PTIONS &lt;string1, string2, string3.......&gt;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UI_LABEL &lt;ui_name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}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ARAM &lt;param_name2&gt;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ARAM &lt;param_name3&gt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}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User Defined Events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00"/>
                </a:solidFill>
                <a:latin typeface="Times New Roman"/>
              </a:rPr>
              <a:t>EVENT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&lt;name&gt; defines the event "name"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00"/>
                </a:solidFill>
                <a:latin typeface="Times New Roman"/>
              </a:rPr>
              <a:t>POST_EVENT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&lt;post_name&gt; specifies that the event "name" will be output to the Post Processor as an event called "post_name".  This attribute of the EVENT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optional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and if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ot specified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, the event will be output to the Post Processor as an Event called "name".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00"/>
                </a:solidFill>
                <a:latin typeface="Times New Roman"/>
              </a:rPr>
              <a:t>UI_LABEL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&lt;ui_name&gt; specifies that "ui_name" is a string used for the title of the dialog. This attribute of the EVENT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optional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and if not specified the event name itself is used as the "ui_name".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00"/>
                </a:solidFill>
                <a:latin typeface="Times New Roman"/>
              </a:rPr>
              <a:t>CLAS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attribute specifies the Operation sub types in which the EVENT is valid. The Type and subtype get the same meaning as in the context of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Template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. This is an optional attribute and when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ot specified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implies that the EVENT is valid for all Types and subtypes.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00"/>
                </a:solidFill>
                <a:latin typeface="Times New Roman"/>
              </a:rPr>
              <a:t>CATEGOR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attribute specifies the Machining type (mill, lathe, wedm, .etc.) in which the Event is relevant. This attribute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optional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.  The Event can be specified to be relevant in more than one Machining Mode. When this attribute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ot specified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the Event becomes relevant in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all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Machining Modes.  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User Defined Events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53416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PARAM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&lt;param_name1&gt; specifies a parameter of the Event. The parameter has a name "param_name1".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TYPE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is an attribute of the 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PARAM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and specifies the parameter type. The possible values for TYPE are: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- an integer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- a real number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- a string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- one of a possible set of options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- a point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DEFVAL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&lt;default value as a string&gt; specifies the default value of the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parameter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. This is an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optional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attribute and if not specified the following will be the defaults according to the TYPE of the parameter: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- default value is 0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- default value is 0.0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- default value is an empty string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- default value is the first one of the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list of option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 provided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- default value does not apply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User Defined Events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TOGGL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is an attribute of th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arameter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which specifies a default value and that the default value is either On or Off. The TOGGLE attribute is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optiona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and if not specified the parameter is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mandator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OPTION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is a required attribute of th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arameter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when the TYPE is 'o'.  This provides all the possible values that the parameter can have.  The values are specified as comma separated strings.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UI_LABE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&lt;ui_name&gt; specifies that "ui_name" will be the text  displayed in the dialog presented. This is an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optiona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attribute and if not specified the "param_name1" itself is used as the "ui_name".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23888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UDE Used In Other Places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601992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dd post commands (events) to a Program, Tool, Operation, .etc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dd to customized dialog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2467080"/>
            <a:ext cx="3467160" cy="2952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066680" y="5133960"/>
            <a:ext cx="2009880" cy="12668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4819680" y="2490840"/>
            <a:ext cx="3409920" cy="29908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rcRect l="0" t="0" r="0" b="78920"/>
          <a:stretch/>
        </p:blipFill>
        <p:spPr>
          <a:xfrm>
            <a:off x="5429160" y="5234040"/>
            <a:ext cx="2009880" cy="11667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6934320" y="676440"/>
            <a:ext cx="200952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Exercise 1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ange the default for coolant to mis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6T01:45:23Z</dcterms:created>
  <dc:creator>Mark Rief</dc:creator>
  <dc:description/>
  <dc:language>en-US</dc:language>
  <cp:lastModifiedBy>holt</cp:lastModifiedBy>
  <cp:lastPrinted>2000-01-27T15:27:42Z</cp:lastPrinted>
  <dcterms:modified xsi:type="dcterms:W3CDTF">2000-02-18T17:10:50Z</dcterms:modified>
  <cp:revision>85</cp:revision>
  <dc:subject/>
  <dc:title>CAM Wizards - Why?</dc:title>
</cp:coreProperties>
</file>