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714533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696600"/>
            <a:ext cx="8001000" cy="24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d8000a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629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UGSol_Sig_stack_white_ppt" descr=""/>
          <p:cNvPicPr/>
          <p:nvPr/>
        </p:nvPicPr>
        <p:blipFill>
          <a:blip r:embed="rId2"/>
          <a:stretch/>
        </p:blipFill>
        <p:spPr>
          <a:xfrm>
            <a:off x="7620120" y="6019920"/>
            <a:ext cx="1371600" cy="68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d04"/>
                </a:solidFill>
                <a:latin typeface="Arial"/>
              </a:rPr>
              <a:t>Definition File for UGPOST</a:t>
            </a:r>
            <a:endParaRPr b="1" lang="en-US" sz="48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n Suderma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Sequence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715520" cy="46483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QUENCE   seq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 1 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00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00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QUENCE   seq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 1 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00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00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00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Address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447920"/>
            <a:ext cx="7715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Autofit/>
          </a:bodyPr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RESS  X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AT    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&lt;Always | Once | Off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number &lt;Abort | Warning | Truncat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number &lt;Abort | Warning | Truncat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ERO_FORMA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ordin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D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IL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Address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1828800"/>
            <a:ext cx="771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Autofit/>
          </a:bodyPr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RESS motion_g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A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c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C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Ab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9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D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G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IL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  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BLOCK_TEMPLATE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828800"/>
            <a:ext cx="847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Autofit/>
          </a:bodyPr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OCK_TEMPL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me 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ress_Nam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Address_Expression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\nows \opt \ldr=string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\trl1 =string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BLOCK_TEMPLATE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Autofit/>
          </a:bodyPr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OCK_TEMPL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ycle_drill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tion_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$mom_sys_cycle_drill_code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$mom_cycle_fedto_pos(0)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$mom_cycle_fedto_pos(1)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$mom_ cycle_fedto_pos(2)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$mom_ cycle_rapto_pos(2)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$mom_feed_rate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Exercise 1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1828800"/>
            <a:ext cx="771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Autofit/>
          </a:bodyPr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NC-code with space between the addre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NC-code without space between the addre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Exercise 2 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1523880"/>
            <a:ext cx="771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Autofit/>
          </a:bodyPr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equence number  (10,20,30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t at 10 and increment by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6920" indent="-325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10 G1 X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6920" indent="-325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20 Y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6920" indent="-325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30 Y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equence number (5,..,15,...2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t at 5, increment by 10, and output every other blo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6920" indent="-325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5 G1 X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6920" indent="-325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6920" indent="-325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15 Y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Exercise 3 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1600200"/>
            <a:ext cx="771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Autofit/>
          </a:bodyPr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equence number format (10,20,30,4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leading zero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equence number format (0010,0020,0030,004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put leading zero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oordinates with 5 whole digits, 3 fractional digits, no leading zeros, trailing zeros and no decimal poi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oordinates with 4 whole digits, 4 fractional digits, leading and trailing zeros with no decimal poi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Exercise 4 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1828800"/>
            <a:ext cx="771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Autofit/>
          </a:bodyPr>
          <a:p>
            <a:pPr marL="387360" indent="-387360">
              <a:spcBef>
                <a:spcPts val="70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G1 Y...   X....    Z.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26920" indent="-325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erse x and y words for linear mo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70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70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G1 Z...   X....    Y.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26920" indent="-325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put z first for linear mo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Exercise 5 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1828800"/>
            <a:ext cx="771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Autofit/>
          </a:bodyPr>
          <a:p>
            <a:pPr marL="387360" indent="-387360">
              <a:spcBef>
                <a:spcPts val="70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instead of “G1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Gll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70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70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instead of “G0” for rapid xy move   “rapid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Definition File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15520" cy="17524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definition file defines the format and content of the blocks that can be output by UG Pos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3640" y="2819520"/>
            <a:ext cx="2765160" cy="25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lock Temp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clu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Exercise 6 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1828800"/>
            <a:ext cx="771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Autofit/>
          </a:bodyPr>
          <a:p>
            <a:pPr marL="387360" indent="-387360">
              <a:spcBef>
                <a:spcPts val="70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instead of “X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X-Coord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70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70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when F is greater than 10, then the system should stop and output an error mess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Exercise 7 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1828800"/>
            <a:ext cx="7715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Autofit/>
          </a:bodyPr>
          <a:p>
            <a:pPr marL="387360" indent="-387360">
              <a:spcBef>
                <a:spcPts val="70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Make the X word come out on all motion bloc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70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70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Exercise 8 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1828800"/>
            <a:ext cx="771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Autofit/>
          </a:bodyPr>
          <a:p>
            <a:pPr marL="387360" indent="-387360">
              <a:spcBef>
                <a:spcPts val="70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the I,J,K output circle center coordinates on arc motion bloc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Solution 1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1828800"/>
            <a:ext cx="771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Autofit/>
          </a:bodyPr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WORD_SEPARATOR “ 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WORD_SEPARATOR “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Solution 2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1828800"/>
            <a:ext cx="771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Autofit/>
          </a:bodyPr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EQUENCE seqn 10 10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EQUENCE seqn 5 10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Solution 3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1447920"/>
            <a:ext cx="771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Autofit/>
          </a:bodyPr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FORMAT Naddress “&amp;__4___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FORMAT Naddress “&amp;__40__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RESS 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AT Nadd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CE o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FORMAT Coordinate “&amp;__5_30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FORMAT Coordinate “&amp;+04_40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Solution 4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14300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Autofit/>
          </a:bodyPr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OCK_TEMPLATE linear {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[$mom_sys_linear_code]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 [$mom_pos(1)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[$mom_pos(0)]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 [$mom_pos(2)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OCK_TEMPLATE linear {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 [$mom_sys_linear_code]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 [$mom_pos(2)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[$mom_pos(0)]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 [$mom_pos(1)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001000" cy="5220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Solution 5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838080"/>
            <a:ext cx="79441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Autofit/>
          </a:bodyPr>
          <a:p>
            <a:pPr marL="387360" indent="-387360">
              <a:spcBef>
                <a:spcPts val="55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LOCK_TEMPLATE linear {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55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[11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55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X [$mom_pos(0)]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Y [$mom_pos(1)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55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Z [$mom_pos(2)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55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55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55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et mom_sys_linear_code 1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55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LOCK_TEMPLATE rapid_xy {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55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apid”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55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X [$mom_pos(0)]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Y [$mom_pos(1)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55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Z [$mom_pos(2)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550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Solution 6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28840" y="1447920"/>
            <a:ext cx="7715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Autofit/>
          </a:bodyPr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RESS X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AT Coordin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CE O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DER “X-Coord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RESS F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AT Coordin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CE O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X 10 Ab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Solution 7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600200"/>
            <a:ext cx="771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Autofit/>
          </a:bodyPr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RESS X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AT Coordin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CE Alw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MACHINE</a:t>
            </a: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fcd04"/>
                </a:solidFill>
                <a:latin typeface="Arial"/>
              </a:rPr>
              <a:t>name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CLUD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name_1, name_2, ..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MATING {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D_SEPARATOR “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trin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D_OF_LINE “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trin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DRES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nam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{ ... 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LOCK_TEMPLAT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nam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{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Solution 8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1523880"/>
            <a:ext cx="7715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OCK_TEMPLATE circle  {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tion_g [$mom_sys_circle_code($mom_arc_direction)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[$mom_pos(0)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[$mom_pos(1)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[$mom_pos(2)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[$mom_pos_arc_center(0)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[$mom_pos_arc_center(1)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[$mom_pos_arc_center(2)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[$mom_feed_rate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Source from different machines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CLUD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name_1, name_2, ..., name_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name_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name of an existing definition fil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system will source this file into the loaded file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Definition File Elements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715160" cy="4419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d04"/>
              </a:buClr>
              <a:buSzPct val="79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_SEPARATOR   “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ri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119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ing between each addres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d04"/>
              </a:buClr>
              <a:buSzPct val="79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D_OF_LINE  “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ri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119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ing at the end of each lin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d04"/>
              </a:buClr>
              <a:buSzPct val="79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QUENC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name start increment frequenc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119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nam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block template for line numb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119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tart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start valu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119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crement frequenc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increment valu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119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requenc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every valu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8000a"/>
              </a:buClr>
              <a:buSzPct val="119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QUENCE NUMBER 1 1 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001000" cy="5220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Format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7715160" cy="48006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d04"/>
              </a:buClr>
              <a:buSzPct val="79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FORMAT name &amp;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abcdef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a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= + or _   “+” means output the plus sign,  “_” means suppress  the plus sign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= 0 or _    “0” means output leading zeros,  “_” means suppress leading zeros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= {0,1,…,9}   Maximum number of digits to left of decimal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=  . or  _    “.” means output the decimal,  “_” means don’t output the decimal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= {0,1,…,9}  Maximum number of digits to right of decimal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= 0 or _ , “0” means output trailing zeros,  “_” means suppress trailing zeros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Format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1552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MA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ordinate   “&amp;__3.4_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s format will output a number with no plus sign, no leading or trailing zeros, 3 digits to left of the decimal and 4 to right with a decimal point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X12.34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Format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MAT name C_Format_String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 = strin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“hello”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 = intege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“5”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 = floating doubl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“3.14...”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 = exponent doubl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“1e2”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%0i,j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=leading 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=total length of numb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=precis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Zero Format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3886200"/>
            <a:ext cx="6400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ADDRESS X 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ZERO_FORMAT zero_coo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FORMAT Coordin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MAX    9999.99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MIN    -9999.99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FORCE  of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s option allows users to control how zero is output.  Zero_format only controls the output when the value to be output is exactly zero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RMAT zero_coord  “0_01.0_”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26T22:37:00Z</dcterms:created>
  <dc:creator>Richard W. Schenk</dc:creator>
  <dc:description/>
  <dc:language>en-US</dc:language>
  <cp:lastModifiedBy>holt</cp:lastModifiedBy>
  <cp:lastPrinted>1998-06-16T23:32:30Z</cp:lastPrinted>
  <dcterms:modified xsi:type="dcterms:W3CDTF">2000-02-18T17:20:24Z</dcterms:modified>
  <cp:revision>93</cp:revision>
  <dc:subject/>
  <dc:title>No Slide Title</dc:title>
</cp:coreProperties>
</file>