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Installing WISH for UG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d04"/>
                </a:solidFill>
                <a:latin typeface="Arial"/>
              </a:rPr>
              <a:t>How to get the software for Windows NT</a:t>
            </a:r>
            <a:endParaRPr b="1" lang="en-US" sz="32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 your favorite web browser (Internet Explorer, Netscape, .et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vigate to the web s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ww.scriptics.com/software/tcltk/downloadnow83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ownloa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perlin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cl830.ex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perlin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 the sub directory to store the 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ter the file downloads, exit the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 the windows Explorer, navigate to the sub directory where the file downloaded and double click on the fil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llow the install dire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y the file wish83.exe to the $UGII_BASE_DIR\mach\auxiliary sub direct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ame wish83.exe to ugwish.ex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39116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How to get the software for UNIX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rt your favorite web browser (Netscape, Mosaic, .et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vigate to the web si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ww.scriptics.com/software/tcltk/downloadnow83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roll down the page to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UNI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ea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k sources (tk8.3.0.tar.Z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perlin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 the sub directory to store the 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ter the file downloads, exit the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vigate to the sub directory where the file downloaded and uncompress and untar the downloaded file to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/usr/local/b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ub direct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llow the install directions in the README 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$UGII_BASE_DIR/mach/auxiliary sub direc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create a link calle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gwis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wish execut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n -s  /usr/local/bin/tk8.3/wish ugwis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holt</cp:lastModifiedBy>
  <cp:lastPrinted>1998-06-16T23:32:30Z</cp:lastPrinted>
  <dcterms:modified xsi:type="dcterms:W3CDTF">2000-02-18T17:13:40Z</dcterms:modified>
  <cp:revision>92</cp:revision>
  <dc:subject/>
  <dc:title>No Slide Title</dc:title>
</cp:coreProperties>
</file>